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58A-D24E-4217-AA1C-AD91E076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E86-2A08-420A-8394-2CCFD118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3F1-DB04-44FF-BB1E-4F7A4079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14B-9357-49E5-8983-240B7180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076-EA50-46CC-8420-E62C8026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E2E-60EA-45D0-B30B-4DFC3EBE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488-24C5-46D7-ADB2-7F7790DB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88E-E795-4305-A7C4-BC9FEC32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564-D97F-4A48-80EE-E8AA8956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47A-A912-4E4E-BE19-C825E0CC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251-64C4-4990-98EE-1C043A8D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A20-8A9F-48D2-8E4C-90D467DC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2FBA-F1B7-4147-A6BB-7E8F3B34C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notes to help you write a summary 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ttery Computer Assig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52480" y="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w it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57400" y="1752480"/>
            <a:ext cx="4732200" cy="3139920"/>
            <a:chOff x="2057400" y="1752480"/>
            <a:chExt cx="4732200" cy="3139920"/>
          </a:xfrm>
        </p:grpSpPr>
        <p:sp>
          <p:nvSpPr>
            <p:cNvPr id="47" name=""/>
            <p:cNvSpPr/>
            <p:nvPr/>
          </p:nvSpPr>
          <p:spPr>
            <a:xfrm>
              <a:off x="2057400" y="1752480"/>
              <a:ext cx="4732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57400" y="1752480"/>
              <a:ext cx="4732200" cy="31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Inside battery"/>
          <p:cNvPicPr/>
          <p:nvPr/>
        </p:nvPicPr>
        <p:blipFill>
          <a:blip r:embed="rId3"/>
          <a:stretch/>
        </p:blipFill>
        <p:spPr>
          <a:xfrm>
            <a:off x="2666880" y="685800"/>
            <a:ext cx="3517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62520" y="1981800"/>
            <a:ext cx="5181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ould view a battery as a kind of pump. But instead of pumping water through pipes, the battery moves electrons through a wire and through the things that the wire is connect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46940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ther electrode is a carbon rod in the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285200"/>
            <a:ext cx="49528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rod is surrounded by a pasty mixture that could be a strong base such as </a:t>
            </a:r>
            <a:r>
              <a:rPr b="1" i="1" lang="en-US" sz="2800" spc="-1" strike="noStrike">
                <a:solidFill>
                  <a:srgbClr val="6600ff"/>
                </a:solidFill>
                <a:latin typeface="Arial"/>
              </a:rPr>
              <a:t>potassium hydrox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cids like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sulfuric 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also react with certain metals to make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133720"/>
            <a:ext cx="1066680" cy="3047760"/>
          </a:xfrm>
          <a:prstGeom prst="rect">
            <a:avLst/>
          </a:prstGeom>
          <a:solidFill>
            <a:srgbClr val="6600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86200" y="4589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atoms become positive while the zinc atoms become negativ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32876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hemical reaction from the paste causes the zinc container to steal electrons from th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0600" y="630360"/>
            <a:ext cx="4343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circuit is created between the positive and negative terminals of our cell, the electrons will be pulled by the positiv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lectrons are pushed by the chemical reaction until the metals are too corroded and the cell is said to be “dea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90920" y="3657600"/>
            <a:ext cx="76176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762120"/>
            <a:ext cx="53316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5400000">
            <a:off x="3274920" y="2692080"/>
            <a:ext cx="1269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use your notes to write a paragraph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9:50:33Z</dcterms:created>
  <dc:creator>ccps</dc:creator>
  <dc:description/>
  <dc:language>en-US</dc:language>
  <cp:lastModifiedBy>ccps</cp:lastModifiedBy>
  <dcterms:modified xsi:type="dcterms:W3CDTF">2009-05-20T18:16:49Z</dcterms:modified>
  <cp:revision>13</cp:revision>
  <dc:subject/>
  <dc:title>Slide 1</dc:title>
</cp:coreProperties>
</file>