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19D7-4F10-4F13-B6C2-1DAEC1EE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EE44-0138-4D02-85A2-0731DE8D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88FF-E465-4911-A386-2D3A10F12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1AAE-F6E1-4858-99B0-801B632BE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5537-9B20-42AF-9815-7A7CFFFB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A965-3F51-41CD-A49B-BBFAF4A4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6897-763A-4C97-AD27-307DD9B0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2DBB-0903-421C-B9E0-19E1F7B1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1B01-1D8D-4D42-93A0-5B86E74F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3FBD-AEA8-4504-AC7F-D79A7DB3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8F47-4279-4DBD-BC7E-491FE478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EF78-CFEA-4465-8B9D-C8A2B89E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784A-2E23-46F5-A341-EF8D81E6A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8377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notes to help you write a summary  that explains how a dry cell makes electric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w and label a diagram to help explain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791320" y="388620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" y="4114800"/>
            <a:ext cx="51814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Word Ban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electrolyte, electrodes, chemical reaction, positive, negative, terminals, current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ttery Computer Assig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752480" y="0"/>
            <a:ext cx="55627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How it Work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57400" y="1752480"/>
            <a:ext cx="4732200" cy="3139920"/>
            <a:chOff x="2057400" y="1752480"/>
            <a:chExt cx="4732200" cy="3139920"/>
          </a:xfrm>
        </p:grpSpPr>
        <p:sp>
          <p:nvSpPr>
            <p:cNvPr id="47" name=""/>
            <p:cNvSpPr/>
            <p:nvPr/>
          </p:nvSpPr>
          <p:spPr>
            <a:xfrm>
              <a:off x="2057400" y="1752480"/>
              <a:ext cx="4732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057400" y="1752480"/>
              <a:ext cx="4732200" cy="31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20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" descr="Inside battery"/>
          <p:cNvPicPr/>
          <p:nvPr/>
        </p:nvPicPr>
        <p:blipFill>
          <a:blip r:embed="rId3"/>
          <a:stretch/>
        </p:blipFill>
        <p:spPr>
          <a:xfrm>
            <a:off x="2666880" y="685800"/>
            <a:ext cx="3517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62520" y="1981800"/>
            <a:ext cx="5181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could view a battery as a kind of pump. But instead of pumping water through pipes, the battery moves electrons through a wire and through the things that the wire is connected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Inside battery"/>
          <p:cNvPicPr/>
          <p:nvPr/>
        </p:nvPicPr>
        <p:blipFill>
          <a:blip r:embed="rId1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573360" y="1974960"/>
          <a:ext cx="1996920" cy="2909880"/>
        </p:xfrm>
        <a:graphic>
          <a:graphicData uri="http://schemas.openxmlformats.org/drawingml/2006/table">
            <a:tbl>
              <a:tblPr/>
              <a:tblGrid>
                <a:gridCol w="241200"/>
                <a:gridCol w="1755720"/>
              </a:tblGrid>
              <a:tr h="305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                          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693960" y="3360600"/>
            <a:ext cx="9720" cy="28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Inside battery"/>
          <p:cNvPicPr/>
          <p:nvPr/>
        </p:nvPicPr>
        <p:blipFill>
          <a:blip r:embed="rId2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9880" y="3042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's how a dry cell work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2486160"/>
            <a:ext cx="495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ell is made up of a zinc can, which acts as the  contai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743120"/>
            <a:ext cx="2133720" cy="3809880"/>
          </a:xfrm>
          <a:prstGeom prst="rect">
            <a:avLst/>
          </a:prstGeom>
          <a:solidFill>
            <a:srgbClr val="bbe0e3">
              <a:alpha val="37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573360" y="1974960"/>
          <a:ext cx="1996920" cy="2909880"/>
        </p:xfrm>
        <a:graphic>
          <a:graphicData uri="http://schemas.openxmlformats.org/drawingml/2006/table">
            <a:tbl>
              <a:tblPr/>
              <a:tblGrid>
                <a:gridCol w="241200"/>
                <a:gridCol w="1755720"/>
              </a:tblGrid>
              <a:tr h="305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                          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693960" y="3360600"/>
            <a:ext cx="9720" cy="28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Inside battery"/>
          <p:cNvPicPr/>
          <p:nvPr/>
        </p:nvPicPr>
        <p:blipFill>
          <a:blip r:embed="rId2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09880" y="3042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's how a dry cell work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43120"/>
            <a:ext cx="2133720" cy="3809880"/>
          </a:xfrm>
          <a:prstGeom prst="rect">
            <a:avLst/>
          </a:prstGeom>
          <a:solidFill>
            <a:srgbClr val="bbe0e3">
              <a:alpha val="37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1828800"/>
            <a:ext cx="380880" cy="3276720"/>
          </a:xfrm>
          <a:prstGeom prst="rect">
            <a:avLst/>
          </a:prstGeom>
          <a:solidFill>
            <a:srgbClr val="ff0000">
              <a:alpha val="48000"/>
            </a:srgbClr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4694040"/>
            <a:ext cx="495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other electrode is a carbon rod in the ce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2486160"/>
            <a:ext cx="495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ell is made up of a zinc can, which acts as the  contai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573360" y="1974960"/>
          <a:ext cx="1996920" cy="2909880"/>
        </p:xfrm>
        <a:graphic>
          <a:graphicData uri="http://schemas.openxmlformats.org/drawingml/2006/table">
            <a:tbl>
              <a:tblPr/>
              <a:tblGrid>
                <a:gridCol w="241200"/>
                <a:gridCol w="1755720"/>
              </a:tblGrid>
              <a:tr h="305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                          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693960" y="3360600"/>
            <a:ext cx="9720" cy="28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Inside battery"/>
          <p:cNvPicPr/>
          <p:nvPr/>
        </p:nvPicPr>
        <p:blipFill>
          <a:blip r:embed="rId2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9880" y="3042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's how a dry cell work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91120" y="1285200"/>
            <a:ext cx="495288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arbon rod is surrounded by a pasty mixture that could be a strong base such as </a:t>
            </a:r>
            <a:r>
              <a:rPr b="1" i="1" lang="en-US" sz="2800" spc="-1" strike="noStrike">
                <a:solidFill>
                  <a:srgbClr val="6600ff"/>
                </a:solidFill>
                <a:latin typeface="Arial"/>
              </a:rPr>
              <a:t>potassium hydroxid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ong acids like </a:t>
            </a: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sulfuric aci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an also react with certain metals to make electr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2133720"/>
            <a:ext cx="1066680" cy="3047760"/>
          </a:xfrm>
          <a:prstGeom prst="rect">
            <a:avLst/>
          </a:prstGeom>
          <a:solidFill>
            <a:srgbClr val="6600ff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Inside battery"/>
          <p:cNvPicPr/>
          <p:nvPr/>
        </p:nvPicPr>
        <p:blipFill>
          <a:blip r:embed="rId1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886200" y="458928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arbon atoms become positive while the zinc atoms become negativ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1328760"/>
            <a:ext cx="525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hemical reaction from the paste causes the zinc container to steal electrons from the carbon atom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3360" y="1828800"/>
            <a:ext cx="1981080" cy="3733920"/>
          </a:xfrm>
          <a:prstGeom prst="rect">
            <a:avLst/>
          </a:prstGeom>
          <a:noFill/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5548320"/>
            <a:ext cx="685800" cy="685800"/>
          </a:xfrm>
          <a:prstGeom prst="ellipse">
            <a:avLst/>
          </a:prstGeom>
          <a:noFill/>
          <a:ln w="95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1828800"/>
            <a:ext cx="380880" cy="3276720"/>
          </a:xfrm>
          <a:prstGeom prst="rect">
            <a:avLst/>
          </a:prstGeom>
          <a:solidFill>
            <a:srgbClr val="ff0000">
              <a:alpha val="48000"/>
            </a:srgbClr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2440" y="1019160"/>
            <a:ext cx="685800" cy="685800"/>
          </a:xfrm>
          <a:prstGeom prst="ellipse">
            <a:avLst/>
          </a:prstGeom>
          <a:noFill/>
          <a:ln w="95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Inside battery"/>
          <p:cNvPicPr/>
          <p:nvPr/>
        </p:nvPicPr>
        <p:blipFill>
          <a:blip r:embed="rId1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800600" y="630360"/>
            <a:ext cx="434340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a circuit is created between the positive and negative terminals of our cell, the electrons will be pulled by the positive carbon atom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lectrons are pushed by the chemical reaction until the metals are too corroded and the cell is said to be “dead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3360" y="1828800"/>
            <a:ext cx="1981080" cy="3733920"/>
          </a:xfrm>
          <a:prstGeom prst="rect">
            <a:avLst/>
          </a:prstGeom>
          <a:noFill/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5548320"/>
            <a:ext cx="685800" cy="685800"/>
          </a:xfrm>
          <a:prstGeom prst="ellipse">
            <a:avLst/>
          </a:prstGeom>
          <a:noFill/>
          <a:ln w="95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1828800"/>
            <a:ext cx="380880" cy="3276720"/>
          </a:xfrm>
          <a:prstGeom prst="rect">
            <a:avLst/>
          </a:prstGeom>
          <a:solidFill>
            <a:srgbClr val="ff0000">
              <a:alpha val="48000"/>
            </a:srgbClr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2440" y="1019160"/>
            <a:ext cx="685800" cy="685800"/>
          </a:xfrm>
          <a:prstGeom prst="ellipse">
            <a:avLst/>
          </a:prstGeom>
          <a:noFill/>
          <a:ln w="95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590920" y="3657600"/>
            <a:ext cx="761760" cy="2819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590560" y="762120"/>
            <a:ext cx="533160" cy="266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 rot="5400000">
            <a:off x="3274920" y="2692080"/>
            <a:ext cx="12697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0" y="9144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w use your notes to write a paragraph that explains how a dry cell makes electric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w and label a diagram to help explain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791320" y="388620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8600" y="4114800"/>
            <a:ext cx="51814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Word Ban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electrolyte, electrodes, chemical reaction, positive, negative, terminals, current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19:50:33Z</dcterms:created>
  <dc:creator>ccps</dc:creator>
  <dc:description/>
  <dc:language>en-US</dc:language>
  <cp:lastModifiedBy>ccps</cp:lastModifiedBy>
  <dcterms:modified xsi:type="dcterms:W3CDTF">2009-05-20T18:16:49Z</dcterms:modified>
  <cp:revision>13</cp:revision>
  <dc:subject/>
  <dc:title>Slide 1</dc:title>
</cp:coreProperties>
</file>