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0AD3-AEBA-448C-B72B-AC4E6F77E8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8057-65BA-4EE4-8E61-D94282D921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FA5A-6652-47CF-B94E-2756F7EF92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3532-CF20-41AD-8E14-F0AB659FE7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94A4-EC89-4B89-ADD2-363318D678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6AF7-E87D-49B5-961A-96509A3831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F19B-39B4-4D7E-B829-3A0955C553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49CC-7DC1-4475-A90F-8B615652A5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2BF2-FDF5-46F6-8E49-006F1C984A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8D39-153C-4CA8-9E0C-8886C3D98C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4ACA-5D69-4DC9-BF18-92710A65CBD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2090-5875-4DF4-8E8F-BEDF0AB19A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E276-F486-46FA-8492-ACAAC77CBF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A26D-2024-4E33-B59F-47E486B6D0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DAD8-5ABB-47E2-A696-98D5B2011D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38AE-3FAB-41E9-9DEE-2EF0366DD5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2A38-EC02-4E07-8B97-8029B32A67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B5B1-B61F-4C9B-B481-83CF2B1D86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4E2C-0EC0-4042-A0E9-0D69B9225B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30DF-B20B-4C4B-AE72-7C2722B4E3A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0F77-3EDC-4C2B-A292-485FC60CD0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01FA-9A63-4178-A66D-19ACD084525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D84D-75B9-4A95-8A5C-02503A5D25F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6F06-9B32-4616-96CF-436728387D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00AD-FB83-42A6-8EAA-E07CA6A121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B6BA-9DF7-4C51-8C23-22FFB24C65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A608-7F0F-4581-B281-E51FF83972A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E89C-11F3-4564-A32C-2BD3AA23C1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FE4D-C0C5-41C5-B93A-8096FA9564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01E0-8F04-4546-9E11-A068368A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DAF-7067-451F-9E8D-42ACF57B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FAA-6877-4351-A188-4F58E02A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2A3-C5F5-4B4E-892C-E18D9F57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A510-0498-4CCB-9BFD-460CB074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0281-41B8-43FD-949C-229DDC0E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5043-C957-490F-9751-6974E74C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B2AD-1CEF-4C6E-8B41-937B62CF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A0E4-C76F-4BA0-97B4-9A41FB2B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9570-BA07-4B42-8764-7DD63948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127E-859B-4867-B205-4B5C3AF4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E24-0070-4F7E-BE3F-35E9763F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8CB0-BE32-489F-9404-4098EF62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256A-3962-4E26-B350-CC1428CC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E3FE-908E-4AA6-BF24-89D69BA1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9E6D-7341-49EB-9163-E06A34F9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C95C-F00B-4958-A6A2-662EFFA8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5B56-9E41-4DC3-B63F-62286E9B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E58-C3A8-48C0-8EF0-B39CD956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4B3-405C-4853-899A-3C0CA82F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CF4-1374-4472-9810-BE68BE1F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40F-EF36-4454-BEDA-103F8B90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617-EC0D-494D-BEAF-849BF686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B97-4BB4-4DB6-B266-341C1823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430B-A344-4F43-9E6E-D62B8215E3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01A3-2407-4043-B234-AE1576333E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ctivities.macmillanmh.com/science/ca/scienceinmotion/Common/SIM.html?Module=../Grade5/Chapter7-SeparatingMixtures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bbc.co.uk/schools" TargetMode="External"/><Relationship Id="rId2" Type="http://schemas.openxmlformats.org/officeDocument/2006/relationships/hyperlink" Target="http://www.bbc.co.uk/schools" TargetMode="External"/><Relationship Id="rId3" Type="http://schemas.openxmlformats.org/officeDocument/2006/relationships/hyperlink" Target="http://www.bbc.co.uk/schools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Water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resources.schoolscience.co.uk/ICI/11-14/materials/match3pg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zephyrus.co.uk/separatingmixtures3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rrespondence.school.nz/departments/science/chemistry/web/home/chemistry/substances/mixture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1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876560" cy="4876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4">
            <a:hlinkClick r:id="" action="ppaction://hlinkshowjump?jump=nextslide"/>
          </p:cNvPr>
          <p:cNvSpPr/>
          <p:nvPr/>
        </p:nvSpPr>
        <p:spPr>
          <a:xfrm>
            <a:off x="6324480" y="6019920"/>
            <a:ext cx="2590920" cy="457200"/>
          </a:xfrm>
          <a:prstGeom prst="rightArrow">
            <a:avLst>
              <a:gd name="adj1" fmla="val 50000"/>
              <a:gd name="adj2" fmla="val 1416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erogeneous mix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074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Heterogeneous mixtures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re mixtures that do not appear to be the same throughou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 particles that are large enough to be seen they can be separated from the mixtur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 substances may be in a different phase (state of matter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cre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ach sand is heterogeneous since you can see different colored partic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inegar and oil salad dressing is heterogeneous since two liquid layers are present, as well as solid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4">
            <a:hlinkClick r:id="" action="ppaction://hlinkshowjump?jump=nextslide"/>
          </p:cNvPr>
          <p:cNvSpPr/>
          <p:nvPr/>
        </p:nvSpPr>
        <p:spPr>
          <a:xfrm>
            <a:off x="5334120" y="63244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ogeneous mixtur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Verdana"/>
              </a:rPr>
              <a:t>Homogenous mixtur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appear to be the same throughout.  There are not particles floating around that you can se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individual substances are found in the same phase (state of matter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rn oi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ite vinega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ugar sol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salt sol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Separating Mixtures: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How would you separate the mixtures below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Beach sand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Vinegar and oil salad dressing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8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sugar solu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371600" y="3809880"/>
            <a:ext cx="73137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re are several methods of separating mixtures…go to the next slide and complete the activity to learn about a few separation metho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304920"/>
            <a:ext cx="7467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eparating Mixtur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1600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activities.macmillanmh.com/science/ca/scienceinmotion/Common/SIM.html?Module=../Grade5/Chapter7-SeparatingMixture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2489040"/>
            <a:ext cx="845820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link above and complete the following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the video and record notes in your science notebook showing the various methods of separating mixtures presen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Next” when finished to watch real examples of these methods in use.  If you left something out of your original notes, add it n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Next” to complete the quiz game sh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each of your group members’ names in the space for your name and select any character you lik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e six questions and record your scor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AutoShape 4">
            <a:hlinkClick r:id="" action="ppaction://hlinkshowjump?jump=nextslide"/>
          </p:cNvPr>
          <p:cNvSpPr/>
          <p:nvPr/>
        </p:nvSpPr>
        <p:spPr>
          <a:xfrm>
            <a:off x="5334120" y="640080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43000" y="123480"/>
            <a:ext cx="73137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ixture made of solid particles of different sizes, for example sand and gravel, can be separated by putting it through a siev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Illustration of sieve with gravel staying in sieve and sand falling through into a pile below"/>
          <p:cNvPicPr/>
          <p:nvPr/>
        </p:nvPicPr>
        <p:blipFill>
          <a:blip r:embed="rId1"/>
          <a:stretch/>
        </p:blipFill>
        <p:spPr>
          <a:xfrm>
            <a:off x="1295280" y="2446200"/>
            <a:ext cx="7086600" cy="4411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2819520" y="6400800"/>
            <a:ext cx="1052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">
            <a:hlinkClick r:id="" action="ppaction://hlinkshowjump?jump=nextslide"/>
          </p:cNvPr>
          <p:cNvSpPr/>
          <p:nvPr/>
        </p:nvSpPr>
        <p:spPr>
          <a:xfrm>
            <a:off x="7010280" y="60199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90720" y="76320"/>
            <a:ext cx="761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mixture of water and an insoluble substance like sand can be separated by filtering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183360" y="6613560"/>
            <a:ext cx="19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5" descr="Illustration of sand in filter and water dropping into beaker beneath"/>
          <p:cNvPicPr/>
          <p:nvPr/>
        </p:nvPicPr>
        <p:blipFill>
          <a:blip r:embed="rId1"/>
          <a:stretch/>
        </p:blipFill>
        <p:spPr>
          <a:xfrm>
            <a:off x="3200400" y="1714680"/>
            <a:ext cx="3024360" cy="514332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4">
            <a:hlinkClick r:id="" action="ppaction://hlinkshowjump?jump=nextslide"/>
          </p:cNvPr>
          <p:cNvSpPr/>
          <p:nvPr/>
        </p:nvSpPr>
        <p:spPr>
          <a:xfrm>
            <a:off x="7010280" y="6019920"/>
            <a:ext cx="1905120" cy="457200"/>
          </a:xfrm>
          <a:prstGeom prst="rightArrow">
            <a:avLst>
              <a:gd name="adj1" fmla="val 50000"/>
              <a:gd name="adj2" fmla="val 104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onclusions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In your notes, copy and answer the following question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me and draw a mixture that shows separation with a sieve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me and draw a mixture that shows separation by filtering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5334120" y="60958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876920" cy="38955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Objective</a:t>
            </a:r>
            <a:br>
              <a:rPr sz="3600"/>
            </a:br>
            <a:fld id="{F631296B-1221-4BC3-9F9B-11CB560244D6}" type="datetime2">
              <a:rPr b="1" lang="en-US" sz="1800" spc="-1" strike="noStrike">
                <a:solidFill>
                  <a:srgbClr val="006666"/>
                </a:solidFill>
                <a:latin typeface="Arial"/>
              </a:rPr>
              <a:t>Tuesday, July 28, 2026</a:t>
            </a:fld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ify matter into mixtures and pure substanc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e the term “mixture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examples of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dentify methods for separating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estion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064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Why is a chocolate chip cookie considered a mixture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62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scuss with your group and answer in your science notebook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990720" y="3429000"/>
            <a:ext cx="71625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Mixtures and Separation</a:t>
            </a:r>
            <a:br>
              <a:rPr sz="4400"/>
            </a:b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My Computer…K-Shared Drive…Cris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2244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udents will be able to…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assify matter into mixtures and pure substanc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the term “mixture”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10 examples of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, define and give an example of the 2 types of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and describe 4 methods for separating mixtur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58672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AKE NOTES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ocolate Chip Cook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are mixtures because they are made up of 2 different substances mixed together (cookie and chocolate chips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individual parts keep their original properti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arts can be separated easily by physical mean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33360" cy="123192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71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Review: What is a 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?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is a </a:t>
            </a:r>
            <a:r>
              <a:rPr b="0" i="1" lang="en-US" sz="3200" spc="-1" strike="noStrike">
                <a:solidFill>
                  <a:srgbClr val="006666"/>
                </a:solidFill>
                <a:latin typeface="Arial"/>
              </a:rPr>
              <a:t>combination of two or more substances that can be separated by physical mean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br>
              <a:rPr sz="1600"/>
            </a:br>
            <a:br>
              <a:rPr sz="16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Each substance in a mixture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eeps its individual propertie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Separation Methods: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sing a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sieve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or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fil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4267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made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particles of differ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s, for example sa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ocks,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7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d by putting it        throug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eve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990720" y="6613560"/>
            <a:ext cx="105202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bbc.co.uk</a:t>
            </a:r>
            <a:r>
              <a:rPr b="0" lang="en-US" sz="10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/schools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bc.co.uk/school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175248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of water and an insoluble substance like sand can be separated by filter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7" descr="Illustration of sand in filter and water dropping into beaker beneath"/>
          <p:cNvPicPr/>
          <p:nvPr/>
        </p:nvPicPr>
        <p:blipFill>
          <a:blip r:embed="rId4"/>
          <a:stretch/>
        </p:blipFill>
        <p:spPr>
          <a:xfrm>
            <a:off x="5562720" y="3352680"/>
            <a:ext cx="1904760" cy="32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8" descr=""/>
          <p:cNvPicPr/>
          <p:nvPr/>
        </p:nvPicPr>
        <p:blipFill>
          <a:blip r:embed="rId5"/>
          <a:stretch/>
        </p:blipFill>
        <p:spPr>
          <a:xfrm>
            <a:off x="533520" y="3886200"/>
            <a:ext cx="4381560" cy="275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AutoShape 4">
            <a:hlinkClick r:id="" action="ppaction://hlinkshowjump?jump=nextslide"/>
          </p:cNvPr>
          <p:cNvSpPr/>
          <p:nvPr/>
        </p:nvSpPr>
        <p:spPr>
          <a:xfrm>
            <a:off x="7543800" y="60199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ther Separation Methods….see the next slide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Filtration:</a:t>
            </a:r>
            <a:r>
              <a:rPr b="1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Used for separating a </a:t>
            </a:r>
            <a:r>
              <a:rPr b="0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id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 from a liquid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Separating SAND from wat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"/>
          <p:cNvPicPr/>
          <p:nvPr/>
        </p:nvPicPr>
        <p:blipFill>
          <a:blip r:embed="rId1"/>
          <a:stretch/>
        </p:blipFill>
        <p:spPr>
          <a:xfrm>
            <a:off x="3232080" y="2286000"/>
            <a:ext cx="3397320" cy="42480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1981080" y="6400800"/>
            <a:ext cx="600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moe.gov.sg/edumall/tl/digital_resources/chemistry8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>
            <a:hlinkClick r:id="" action="ppaction://hlinkshowjump?jump=nextslide"/>
          </p:cNvPr>
          <p:cNvSpPr/>
          <p:nvPr/>
        </p:nvSpPr>
        <p:spPr>
          <a:xfrm>
            <a:off x="6858000" y="6019920"/>
            <a:ext cx="2057400" cy="457200"/>
          </a:xfrm>
          <a:prstGeom prst="rightArrow">
            <a:avLst>
              <a:gd name="adj1" fmla="val 50000"/>
              <a:gd name="adj2" fmla="val 1125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Evaporation: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Used to obtain the </a:t>
            </a:r>
            <a:r>
              <a:rPr b="0" lang="en-US" sz="31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olute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 from a solution</a:t>
            </a:r>
            <a:r>
              <a:rPr b="0" lang="en-US" sz="31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For obtaining SUGAR (</a:t>
            </a:r>
            <a:r>
              <a:rPr b="0" lang="en-US" sz="24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solute)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 from sugar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024440" cy="389736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>
            <a:hlinkClick r:id="" action="ppaction://hlinkshowjump?jump=nextslide"/>
          </p:cNvPr>
          <p:cNvSpPr/>
          <p:nvPr/>
        </p:nvSpPr>
        <p:spPr>
          <a:xfrm>
            <a:off x="6553080" y="6019920"/>
            <a:ext cx="2362320" cy="457200"/>
          </a:xfrm>
          <a:prstGeom prst="rightArrow">
            <a:avLst>
              <a:gd name="adj1" fmla="val 50000"/>
              <a:gd name="adj2" fmla="val 1291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imple Distillation:</a:t>
            </a:r>
            <a:r>
              <a:rPr b="1" lang="en-US" sz="27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Used to obtain the </a:t>
            </a:r>
            <a:r>
              <a:rPr b="0" lang="en-US" sz="28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vent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 from a solution.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mple distillation is usually used only to separate liquids whose boiling points differ greatly.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For obtaining pure water (</a:t>
            </a:r>
            <a:r>
              <a:rPr b="0" lang="en-US" sz="24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solvent)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from sea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5" descr="simple_distillation2"/>
          <p:cNvPicPr/>
          <p:nvPr/>
        </p:nvPicPr>
        <p:blipFill>
          <a:blip r:embed="rId1"/>
          <a:srcRect l="0" t="0" r="4000" b="2669"/>
          <a:stretch/>
        </p:blipFill>
        <p:spPr>
          <a:xfrm>
            <a:off x="2590920" y="2685960"/>
            <a:ext cx="5486400" cy="41720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6"/>
          <p:cNvSpPr/>
          <p:nvPr/>
        </p:nvSpPr>
        <p:spPr>
          <a:xfrm>
            <a:off x="205200" y="6400800"/>
            <a:ext cx="51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moe.gov.sg/edumall/tl/digital_resources/chemistry8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AutoShape 4">
            <a:hlinkClick r:id="" action="ppaction://hlinkshowjump?jump=nextslide"/>
          </p:cNvPr>
          <p:cNvSpPr/>
          <p:nvPr/>
        </p:nvSpPr>
        <p:spPr>
          <a:xfrm>
            <a:off x="7696080" y="601992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80"/>
                </a:solidFill>
                <a:uFillTx/>
                <a:latin typeface="Arial"/>
                <a:ea typeface="Arial"/>
              </a:rPr>
              <a:t>Fractional Distillation: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  <a:ea typeface="Arial"/>
              </a:rPr>
              <a:t>Used to separate one liquid from a mixture of different liquids using the different boiling points to help.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distillation of a mixture of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ater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 and ethanol alcohol. Ethanol boils at 78.5 °C while water boils at 100 °C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1752480" y="3025800"/>
            <a:ext cx="5257800" cy="383220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4">
            <a:hlinkClick r:id="" action="ppaction://hlinkshowjump?jump=nextslide"/>
          </p:cNvPr>
          <p:cNvSpPr/>
          <p:nvPr/>
        </p:nvSpPr>
        <p:spPr>
          <a:xfrm>
            <a:off x="7086600" y="6019920"/>
            <a:ext cx="1828800" cy="4572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Chromatography: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Used to separate out one color from a mixture of colors</a:t>
            </a:r>
            <a:r>
              <a:rPr b="0" lang="en-US" sz="31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For separating out the colors in black 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3962520" cy="386532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6095880" y="5105520"/>
            <a:ext cx="12956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lack in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571680"/>
            <a:ext cx="8458200" cy="114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:  Summary of methods used to separate a mixtur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62120" y="806400"/>
          <a:ext cx="8381880" cy="544680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t is used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il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for separating a 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id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a liqu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eparating SAND from wate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vapo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sed to obtain the </a:t>
                      </a:r>
                      <a:r>
                        <a:rPr b="0" lang="en-US" sz="2000" spc="-1" strike="noStrike" u="sng">
                          <a:solidFill>
                            <a:srgbClr val="000080"/>
                          </a:solidFill>
                          <a:uFillTx/>
                          <a:latin typeface="Arial"/>
                          <a:ea typeface="Arial"/>
                        </a:rPr>
                        <a:t>solute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from a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or obtaining SALT (</a:t>
                      </a:r>
                      <a:r>
                        <a:rPr b="0" lang="en-US" sz="2000" spc="-1" strike="noStrike" u="sng">
                          <a:solidFill>
                            <a:srgbClr val="000080"/>
                          </a:solidFill>
                          <a:uFillTx/>
                          <a:latin typeface="Arial"/>
                          <a:ea typeface="Arial"/>
                        </a:rPr>
                        <a:t>solute)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from salt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imple distil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to obtain the 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vent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a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or obtaining pure water (</a:t>
                      </a:r>
                      <a:r>
                        <a:rPr b="0" lang="en-US" sz="2000" spc="-1" strike="noStrike" u="sng">
                          <a:solidFill>
                            <a:srgbClr val="008000"/>
                          </a:solidFill>
                          <a:uFillTx/>
                          <a:latin typeface="Arial"/>
                          <a:ea typeface="Arial"/>
                        </a:rPr>
                        <a:t>solvent)</a:t>
                      </a: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 from sea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ractional distil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sed to separate one liquid from a mixture of different liquids using the different boiling points to hel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xygen or nitrogen is obtained from air (a mixture of different gas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Chromato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Used to separate out one color from a mixture of col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For separating out the colors in black 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808080"/>
                      </a:solidFill>
                    </a:lnL>
                    <a:lnR w="4320">
                      <a:solidFill>
                        <a:srgbClr val="808080"/>
                      </a:solidFill>
                    </a:lnR>
                    <a:lnT w="4320">
                      <a:solidFill>
                        <a:srgbClr val="808080"/>
                      </a:solidFill>
                    </a:lnT>
                    <a:lnB w="43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AutoShape 4">
            <a:hlinkClick r:id="" action="ppaction://hlinkshowjump?jump=nextslide"/>
          </p:cNvPr>
          <p:cNvSpPr/>
          <p:nvPr/>
        </p:nvSpPr>
        <p:spPr>
          <a:xfrm>
            <a:off x="5334120" y="632448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xtures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are two or more substances that are not chemically combined and they can be physically separated.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 **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dd this word to your science notebook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Which of the substances below are “mixtur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”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nd, soil, chicken soup, pizza, chocola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ip cookies,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lt w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920" y="4952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l of the substances are mixtures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Activity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parating  A Salt and Water Mixtur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  Go to the site below and read about the ways to separate salt from water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.  Complete the interactive section at the bottom of the page (question 14)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resources.schoolscience.co.uk/ICI/11-14/materials/match3pg1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Brain Storm!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would you go about separating a mixture of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salt and san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 your group, list the procedure you would follow in your notebook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eck your method by comparing it to the method presented at the website below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zephyrus.co.uk/separatingmixtures3.htm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Conclusions: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Copy and answer this question in your science notebook. 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82736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6666"/>
                </a:solidFill>
                <a:uFillTx/>
                <a:latin typeface="Verdana"/>
              </a:rPr>
              <a:t>Complex Mixture Separation: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could you separate a sand, salt, iron filings and marbles mixture? Explain, using pictures or diagrams to help your answ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YOU COMPLETED THE LESSON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ease see Mr. Mihalyov to share what you learned and determine your next step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n a  </a:t>
            </a:r>
            <a:r>
              <a:rPr b="1" lang="en-US" sz="4400" spc="-1" strike="noStrike" u="sng">
                <a:solidFill>
                  <a:srgbClr val="006666"/>
                </a:solidFill>
                <a:uFillTx/>
                <a:latin typeface="Arial"/>
              </a:rPr>
              <a:t>mixture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 ….</a:t>
            </a:r>
            <a:br>
              <a:rPr sz="44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33520" y="2805120"/>
            <a:ext cx="8305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*Each substance in the mixture keeps its individual properties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4343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*The substances can be separated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by physical mean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Think about </a:t>
            </a:r>
            <a:r>
              <a:rPr b="0" i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why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 they are mixtures?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 OF MIXTURE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609480" indent="-6094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conglomeraterockimage"/>
          <p:cNvPicPr/>
          <p:nvPr/>
        </p:nvPicPr>
        <p:blipFill>
          <a:blip r:embed="rId1"/>
          <a:stretch/>
        </p:blipFill>
        <p:spPr>
          <a:xfrm>
            <a:off x="914400" y="2133720"/>
            <a:ext cx="2708280" cy="1646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epsioneimage"/>
          <p:cNvPicPr/>
          <p:nvPr/>
        </p:nvPicPr>
        <p:blipFill>
          <a:blip r:embed="rId2"/>
          <a:stretch/>
        </p:blipFill>
        <p:spPr>
          <a:xfrm>
            <a:off x="4648320" y="4267080"/>
            <a:ext cx="650880" cy="1235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amburgerimage"/>
          <p:cNvPicPr/>
          <p:nvPr/>
        </p:nvPicPr>
        <p:blipFill>
          <a:blip r:embed="rId3"/>
          <a:stretch/>
        </p:blipFill>
        <p:spPr>
          <a:xfrm>
            <a:off x="6095880" y="2286000"/>
            <a:ext cx="219420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991440" y="3886200"/>
            <a:ext cx="250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RO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ixture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kinds o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734280" y="5638680"/>
            <a:ext cx="257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SO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xture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ar and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790240" y="4114800"/>
            <a:ext cx="325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SANDWI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i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read, meat, tom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AutoShape 4">
            <a:hlinkClick r:id="" action="ppaction://hlinkshowjump?jump=nextslide"/>
          </p:cNvPr>
          <p:cNvSpPr/>
          <p:nvPr/>
        </p:nvSpPr>
        <p:spPr>
          <a:xfrm>
            <a:off x="6477120" y="6019920"/>
            <a:ext cx="2438280" cy="457200"/>
          </a:xfrm>
          <a:prstGeom prst="rightArrow">
            <a:avLst>
              <a:gd name="adj1" fmla="val 50000"/>
              <a:gd name="adj2" fmla="val 1333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294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66"/>
                </a:solidFill>
                <a:latin typeface="Arial"/>
              </a:rPr>
              <a:t>Activity 1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360" y="342756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Verdana"/>
              </a:rPr>
              <a:t>Internet Activity: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ixtures, Substances, Elements, and Compound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 to Internet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t’s pretend we have an extremely powerful microscope that can allow us to see the atoms of various thing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llowing website should allow us to see the differences in elements, compounds, and mixtur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ernet Activ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he link below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n, close the website (x out) and  come back to the PowerPoint when you have finished the activity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Mixtures, Compounds, Elements Websi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There are  2 types of mixtures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AutoShape 4">
            <a:hlinkClick r:id="" action="ppaction://hlinkshowjump?jump=nextslide"/>
          </p:cNvPr>
          <p:cNvSpPr/>
          <p:nvPr/>
        </p:nvSpPr>
        <p:spPr>
          <a:xfrm>
            <a:off x="5334120" y="6019920"/>
            <a:ext cx="3581280" cy="457200"/>
          </a:xfrm>
          <a:prstGeom prst="rightArrow">
            <a:avLst>
              <a:gd name="adj1" fmla="val 50000"/>
              <a:gd name="adj2" fmla="val 19582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2:48:28Z</dcterms:created>
  <dc:creator>ccps</dc:creator>
  <dc:description/>
  <dc:language>en-US</dc:language>
  <cp:lastModifiedBy>ccps</cp:lastModifiedBy>
  <dcterms:modified xsi:type="dcterms:W3CDTF">2009-12-16T20:26:16Z</dcterms:modified>
  <cp:revision>25</cp:revision>
  <dc:subject/>
  <dc:title>Slide 1</dc:title>
</cp:coreProperties>
</file>