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1A9B-FB0E-4AAC-BE06-3AD30ADA49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1290-C422-42C3-8D83-4C0A921377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3434-76D1-444A-9DBE-6891977969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6A28-57A6-48F0-A09A-001AD44D12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CDF0-D91E-4CA0-8535-F30715E593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A683-555F-47BC-A8C1-9D2319021F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6995-AF4B-4C88-A48C-854B6BE233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1054-BFAD-4949-BB07-6D6EF0A47B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C239-1D34-45DE-8379-656F0B5CEC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175E-5375-4C11-B937-10C1F7A116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0699-6BB7-4635-BFE2-E4624ECBE5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E775-0D32-4C25-AC90-45D6BCF4C2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70E9-1AF7-40B3-8FE3-4C1E2A45B1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D20C-3848-46E1-9233-A4397D45B4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8011-96C4-4958-B963-EE98857EFF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BC58-3114-47DF-B1FF-E9C0E51A16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A0D6-3E40-4B38-9C57-C2D194ED4C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B531-CCF3-4A1E-800E-EB85804D51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891B-B208-418F-927E-8EFBCBD2C4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003E-209D-4577-BA01-313509AC22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B815-A259-4F95-8FED-A8C5516F7C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7E30-AB89-4189-A3AB-1054F69AA1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E514-6268-461B-9D1B-EA04FBE950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61DF-DB98-40D7-BE75-B82D5C73F6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3D86-8319-4118-8E25-A18D26E36C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43BF-FF85-4700-81C0-AEFF2228DB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F80B-C632-40C7-B977-C1F2A945C6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7C66-EE07-4413-BA4A-26E16A4DD6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5D59-9D76-4A49-9198-51801A7ED3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B3F-7644-4D3C-9406-16E0F3E6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4C2-346A-4C9E-BAF2-9638B141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961-1176-4215-9128-8DCE7CCC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F4A-7C65-43AF-B0F1-09728985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6B83-DE88-4D53-B236-D67C6AF1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1E71-9E16-4474-8D53-13236129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2D29-ABFE-4B63-B13E-049D6681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A4BA-702C-42B7-9DC7-C099DF4F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9376-74BC-448A-86E7-61E1C2A3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DE39-9B5D-43AB-B642-4EA0799A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8EB5-D4D1-4354-9997-BCDEA1B9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626-3A6E-4D28-84E1-F0BF3E70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57B9-B91F-4505-8386-3A0D9BE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AF82-FB1D-4ED4-B4ED-8D7E0BFA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54AF-7EA2-42E1-B28B-D5F60028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35E1-443B-4D79-93E6-3257FB77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C949-6E23-4995-9958-D411709F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B63-C7F3-4B52-8964-E4CF609E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839-27E6-4091-BDE0-4EF51F1D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091-4DC9-4613-B8A9-7C6289CD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26E-846B-42F5-8C69-B03DD720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721-E1AC-4E93-A8B7-00BC0246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DBE-5860-4009-976D-D3A2E2B2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A08-A65B-4CCE-B8FB-4FBDF42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609E-BD28-45DA-BB7D-86F92E7207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D784-DB1B-44DD-A9C5-7B14063627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ctivities.macmillanmh.com/science/ca/scienceinmotion/Common/SIM.html?Module=../Grade5/Chapter7-SeparatingMixtures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bc.co.uk/schools" TargetMode="External"/><Relationship Id="rId2" Type="http://schemas.openxmlformats.org/officeDocument/2006/relationships/hyperlink" Target="http://www.bbc.co.uk/schools" TargetMode="External"/><Relationship Id="rId3" Type="http://schemas.openxmlformats.org/officeDocument/2006/relationships/hyperlink" Target="http://www.bbc.co.uk/schools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ter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esources.schoolscience.co.uk/ICI/11-14/materials/match3pg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zephyrus.co.uk/separatingmixtures3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rrespondence.school.nz/departments/science/chemistry/web/home/chemistry/substances/mixtur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">
            <a:hlinkClick r:id="" action="ppaction://hlinkshowjump?jump=nextslide"/>
          </p:cNvPr>
          <p:cNvSpPr/>
          <p:nvPr/>
        </p:nvSpPr>
        <p:spPr>
          <a:xfrm>
            <a:off x="6324480" y="6019920"/>
            <a:ext cx="2590920" cy="457200"/>
          </a:xfrm>
          <a:prstGeom prst="rightArrow">
            <a:avLst>
              <a:gd name="adj1" fmla="val 50000"/>
              <a:gd name="adj2" fmla="val 141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er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074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eterogeneous mixtures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re mixtures that do not appear to be the same throughou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 particles that are large enough to be seen they can be separated from the mixtur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may be in a different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cre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ach sand is heterogeneous since you can see different colored partic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inegar and oil salad dressing is heterogeneous since two liquid layers are present, as well as solid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omogenous mixtur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ppear to be the same throughout.  There are not particles floating around that you can se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are found in the same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n oi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ite vinega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alt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Separating Mixture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How would you separate the mixtures below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Beach sand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Vinegar and oil salad dressing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371600" y="3809880"/>
            <a:ext cx="73137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re are several methods of separating mixtures…go to the next slide and complete the activity to learn about a few separation metho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304920"/>
            <a:ext cx="74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arating Mixtur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600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activities.macmillanmh.com/science/ca/scienceinmotion/Common/SIM.html?Module=../Grade5/Chapter7-SeparatingMixtur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489040"/>
            <a:ext cx="84582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above and complete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the video and record notes in your science notebook showing the various methods of separating mixtures prese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when finished to watch real examples of these methods in use.  If you left something out of your original notes, add it n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to complete the quiz game sh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each of your group members’ names in the space for your name and select any character you li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six questions and record your sco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4">
            <a:hlinkClick r:id="" action="ppaction://hlinkshowjump?jump=nextslide"/>
          </p:cNvPr>
          <p:cNvSpPr/>
          <p:nvPr/>
        </p:nvSpPr>
        <p:spPr>
          <a:xfrm>
            <a:off x="5334120" y="640080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123480"/>
            <a:ext cx="73137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ixture made of solid particles of different sizes, for example sand and gravel, can be separated by putting it through a siev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Illustration of sieve with gravel staying in sieve and sand falling through into a pile below"/>
          <p:cNvPicPr/>
          <p:nvPr/>
        </p:nvPicPr>
        <p:blipFill>
          <a:blip r:embed="rId1"/>
          <a:stretch/>
        </p:blipFill>
        <p:spPr>
          <a:xfrm>
            <a:off x="1295280" y="2446200"/>
            <a:ext cx="7086600" cy="4411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819520" y="6400800"/>
            <a:ext cx="1052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90720" y="76320"/>
            <a:ext cx="761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mixture of water and an insoluble substance like sand can be separated by filtering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183360" y="6613560"/>
            <a:ext cx="19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5" descr="Illustration of sand in filter and water dropping into beaker beneath"/>
          <p:cNvPicPr/>
          <p:nvPr/>
        </p:nvPicPr>
        <p:blipFill>
          <a:blip r:embed="rId1"/>
          <a:stretch/>
        </p:blipFill>
        <p:spPr>
          <a:xfrm>
            <a:off x="3200400" y="1714680"/>
            <a:ext cx="3024360" cy="51433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In your notes, copy and answer the following question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with a siev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by filtering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5334120" y="60958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876920" cy="38955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Objective</a:t>
            </a:r>
            <a:br>
              <a:rPr sz="3600"/>
            </a:br>
            <a:fld id="{664CA399-19B2-485B-B453-DE6692719361}" type="datetime2">
              <a:rPr b="1" lang="en-US" sz="1800" spc="-1" strike="noStrike">
                <a:solidFill>
                  <a:srgbClr val="006666"/>
                </a:solidFill>
                <a:latin typeface="Arial"/>
              </a:rPr>
              <a:t>Thursday, July 30, 2026</a:t>
            </a:fld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examples of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methods for separating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064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y is a chocolate chip cookie considered a mixture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62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cuss with your group and answer in your science notebook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90720" y="3429000"/>
            <a:ext cx="7162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ixtures and Separation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y Computer…K-Shared Drive…Cris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2244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10 exampl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, define and give an example of the 2 typ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and describe 4 methods for separating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8672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E NOTES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ocolate Chip Cook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are mixtures because they are made up of 2 different substances mixed together (cookie and chocolate chip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dividual parts keep their original propert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arts can be separated easily by physical mea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33360" cy="12319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7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Review: What is a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?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is a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combination of two or more substances that can be separated by physical mean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Each substance in a mixture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Separation Methods: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ing a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siev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fil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made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particles of differ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s, for example s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ocks,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d by putting it        throug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ev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90720" y="6613560"/>
            <a:ext cx="1052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bbc.co.uk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/school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17524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of water and an insoluble substance like sand can be separated by filter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Illustration of sand in filter and water dropping into beaker beneath"/>
          <p:cNvPicPr/>
          <p:nvPr/>
        </p:nvPicPr>
        <p:blipFill>
          <a:blip r:embed="rId4"/>
          <a:stretch/>
        </p:blipFill>
        <p:spPr>
          <a:xfrm>
            <a:off x="5562720" y="3352680"/>
            <a:ext cx="1904760" cy="32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533520" y="3886200"/>
            <a:ext cx="4381560" cy="27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AutoShape 4">
            <a:hlinkClick r:id="" action="ppaction://hlinkshowjump?jump=nextslide"/>
          </p:cNvPr>
          <p:cNvSpPr/>
          <p:nvPr/>
        </p:nvSpPr>
        <p:spPr>
          <a:xfrm>
            <a:off x="7543800" y="60199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ther Separation Methods….see the next slide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Filtration:</a:t>
            </a:r>
            <a:r>
              <a:rPr b="1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for separating a </a:t>
            </a:r>
            <a:r>
              <a:rPr b="0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from a liqu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Separating SAND from wa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"/>
          <p:cNvPicPr/>
          <p:nvPr/>
        </p:nvPicPr>
        <p:blipFill>
          <a:blip r:embed="rId1"/>
          <a:stretch/>
        </p:blipFill>
        <p:spPr>
          <a:xfrm>
            <a:off x="3232080" y="2286000"/>
            <a:ext cx="3397320" cy="424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1981080" y="6400800"/>
            <a:ext cx="60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>
            <a:hlinkClick r:id="" action="ppaction://hlinkshowjump?jump=nextslide"/>
          </p:cNvPr>
          <p:cNvSpPr/>
          <p:nvPr/>
        </p:nvSpPr>
        <p:spPr>
          <a:xfrm>
            <a:off x="6858000" y="601992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Evaporation: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Used to obtain the </a:t>
            </a:r>
            <a:r>
              <a:rPr b="0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 from a solution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For obtaining SUGAR (</a:t>
            </a:r>
            <a:r>
              <a:rPr b="0" lang="en-US" sz="24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 from sugar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024440" cy="389736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>
            <a:hlinkClick r:id="" action="ppaction://hlinkshowjump?jump=nextslide"/>
          </p:cNvPr>
          <p:cNvSpPr/>
          <p:nvPr/>
        </p:nvSpPr>
        <p:spPr>
          <a:xfrm>
            <a:off x="6553080" y="60199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imple Distillation:</a:t>
            </a:r>
            <a:r>
              <a:rPr b="1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Used to obtain the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 from a solution.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mple distillation is usually used only to separate liquids whose boiling points differ greatly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obtaining pure water (</a:t>
            </a:r>
            <a:r>
              <a:rPr b="0" lang="en-US" sz="24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)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from sea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5" descr="simple_distillation2"/>
          <p:cNvPicPr/>
          <p:nvPr/>
        </p:nvPicPr>
        <p:blipFill>
          <a:blip r:embed="rId1"/>
          <a:srcRect l="0" t="0" r="4000" b="2669"/>
          <a:stretch/>
        </p:blipFill>
        <p:spPr>
          <a:xfrm>
            <a:off x="2590920" y="2685960"/>
            <a:ext cx="5486400" cy="41720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205200" y="6400800"/>
            <a:ext cx="51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7696080" y="60199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Fractional Distillation: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Used to separate one liquid from a mixture of different liquids using the different boiling points to help.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distillation of a mixture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ater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and ethanol alcohol. Ethanol boils at 78.5 °C while water boils at 100 °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1752480" y="3025800"/>
            <a:ext cx="5257800" cy="38322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4">
            <a:hlinkClick r:id="" action="ppaction://hlinkshowjump?jump=nextslide"/>
          </p:cNvPr>
          <p:cNvSpPr/>
          <p:nvPr/>
        </p:nvSpPr>
        <p:spPr>
          <a:xfrm>
            <a:off x="7086600" y="6019920"/>
            <a:ext cx="1828800" cy="4572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Chromatography: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to separate out one color from a mixture of colors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separating out the colors in black 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3962520" cy="3865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6095880" y="5105520"/>
            <a:ext cx="1295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lack in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8458200" cy="11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:  Summary of methods used to separate a mixtur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2120" y="806400"/>
          <a:ext cx="8381880" cy="54468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t is used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il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for separating a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id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liqu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eparating SAND from wat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or obtaining SALT (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)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salt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imple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obtaining pure water (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)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sea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ctional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separate one liquid from a mixture of different liquids using the different boiling points to he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xygen or nitrogen is obtained from air (a mixture of different gas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Chromat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separate out one color from a mixture of col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separating out the colors in black 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xture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are two or more substances that are not chemically combined and they can be physically separated.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**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dd this word to your science notebook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ch of the substances below are “mixtur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”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nd, soil, chicken soup, pizza, chocol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ip cookies,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lt w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4952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l of the substances are mixtures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Activity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arating  A Salt and Water Mixtur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  Go to the site below and read about the ways to separate salt from water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  Complete the interactive section at the bottom of the page (question 14)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resources.schoolscience.co.uk/ICI/11-14/materials/match3pg1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Brain Storm!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would you go about separating a mixture of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salt and san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your group, list the procedure you would follow in your notebook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ck your method by comparing it to the method presented at the website below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zephyrus.co.uk/separatingmixtures3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Copy and answer this question in your science notebook.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827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6666"/>
                </a:solidFill>
                <a:uFillTx/>
                <a:latin typeface="Verdana"/>
              </a:rPr>
              <a:t>Complex Mixture Separation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ould you separate a sand, salt, iron filings and marbles mixture? Explain, using pictures or diagrams to help your answ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YOU COMPLETED THE LESSON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ease see Mr. Mihalyov to share what you learned and determine your next ste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n a 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 ….</a:t>
            </a:r>
            <a:br>
              <a:rPr sz="44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2805120"/>
            <a:ext cx="830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Each substance in the mixture 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4343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The substances can be separated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y physical mean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Think about </a:t>
            </a:r>
            <a:r>
              <a:rPr b="0" i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why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 they are mixtures?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 OF MIXTURE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conglomeraterockimage"/>
          <p:cNvPicPr/>
          <p:nvPr/>
        </p:nvPicPr>
        <p:blipFill>
          <a:blip r:embed="rId1"/>
          <a:stretch/>
        </p:blipFill>
        <p:spPr>
          <a:xfrm>
            <a:off x="914400" y="2133720"/>
            <a:ext cx="2708280" cy="1646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epsioneimage"/>
          <p:cNvPicPr/>
          <p:nvPr/>
        </p:nvPicPr>
        <p:blipFill>
          <a:blip r:embed="rId2"/>
          <a:stretch/>
        </p:blipFill>
        <p:spPr>
          <a:xfrm>
            <a:off x="4648320" y="4267080"/>
            <a:ext cx="650880" cy="123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amburgerimage"/>
          <p:cNvPicPr/>
          <p:nvPr/>
        </p:nvPicPr>
        <p:blipFill>
          <a:blip r:embed="rId3"/>
          <a:stretch/>
        </p:blipFill>
        <p:spPr>
          <a:xfrm>
            <a:off x="6095880" y="2286000"/>
            <a:ext cx="219420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991440" y="3886200"/>
            <a:ext cx="250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R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kinds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734280" y="5638680"/>
            <a:ext cx="257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O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 and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790240" y="4114800"/>
            <a:ext cx="325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ANDW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read, meat, tom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6477120" y="601992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294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Activity 1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360" y="342756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Internet Activity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ixtures, Substances, Elements, and Compound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 to 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t’s pretend we have an extremely powerful microscope that can allow us to see the atoms of various thing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website should allow us to see the differences in elements, compounds, and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he link below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n, close the website (x out) and  come back to the PowerPoint when you have finished the activ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Mixtures, Compounds, Elements Websi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here are  2 types of mixtures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2:48:28Z</dcterms:created>
  <dc:creator>ccps</dc:creator>
  <dc:description/>
  <dc:language>en-US</dc:language>
  <cp:lastModifiedBy>ccps</cp:lastModifiedBy>
  <dcterms:modified xsi:type="dcterms:W3CDTF">2009-12-16T20:26:16Z</dcterms:modified>
  <cp:revision>25</cp:revision>
  <dc:subject/>
  <dc:title>Slide 1</dc:title>
</cp:coreProperties>
</file>