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69E7-3C6F-43B7-9DC8-2212030B4F2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FEEA-6F31-4DE6-86AC-30A0DD0D709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E39D-8316-4E54-A287-F21B508D442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E93B-4A3C-40E0-9949-1370E03BBE8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67C2-0911-4DAF-8C89-3F5F610978E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7461-96DE-4027-8030-AB4FBE2E52A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6AA4-D14D-4179-9F44-FACD41E1D70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B8BC-3A21-4684-A1B5-6B7B639CB1B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38F0-2ED9-4B8B-A39F-BAEF965DF4F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64FC-5AC5-4E60-8210-D2F16FD903D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E092-AF6E-47D8-B422-0DE8F907E2E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223E-039B-4D64-9016-117A6AD17A5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0CB1-7239-408C-89F1-603189EB0D9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5964-57E4-4AF7-8B0C-E5757B9D52D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B4D3-50CD-4E69-99B4-FE525656F3F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EF60-A877-449E-9E95-55EFE2D95AE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B2A8-513F-439F-BDF0-B94DAF4FD29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7B1F-7DBC-4362-AA38-B30A59D05C4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7400-C31B-4D94-B2F4-F4B462F9DEE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C609-6951-4D5F-95F2-1B25C84FE22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19EF-8F3F-458E-A457-B18B89C9521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4698-138F-423D-9207-68DA12BF6EC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EEAD-5C95-4A23-9AE0-B71819CBA06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ADFA-3A3A-4476-9BC5-F34A9770718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3E97-475E-46DB-9D0B-F6B067A5056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9A27-C2F1-4CA8-AA2D-4BB11ACB32E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ECA1-0DF2-40D0-ACB0-2885DF9C72A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D309-2EEC-4235-8EB9-8062E81D44B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93C8-A8B3-43A5-9BBE-EEB173F7FE6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753F-1765-441E-A261-B7B5AA2A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936C-5AE7-4508-A6C6-9EF707F9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1C3E-3493-4FFB-9B6D-6ED541566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D8B5-9B9F-47A9-8685-A28F1C8E0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D2C1-E79B-4410-B826-7CE5A60E5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7900-D11C-41C8-AB1F-8752BD29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9FFA-8A4C-44D6-AC60-06F954F9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2D40-1A74-4555-919E-4EE5FC94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1607-F481-4625-B56F-5B813489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C629-CF80-4D61-B363-B1BA2162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DF57-DB35-4F23-82FC-827E7318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71B1-8E4B-447F-B5F2-519C1CB1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4FFD-6338-4BDF-B043-86E5D55F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8B71-F6F4-4D8D-88A0-22D9DAE5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8B36-0CB1-4C2C-89C8-160BD498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F3AF-D18A-4C0C-AC31-DCE0A7B0A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3F50-060B-48B5-90D5-5846D114C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C90B-AF6F-463B-9D5F-92643D9E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FFEB-4A59-40C5-95F9-53281D83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37DE-8A90-413C-A174-D1F1AC61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8861-A1B5-4997-A09E-B3097F43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3D11-2A10-4B1A-B083-7E7BABBC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B56E-036B-4656-85CD-2D2F2F4D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FA25-3472-4159-9643-7121E765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92CC-1447-43CC-A452-CCD4DF580E5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E0E5-E26E-43AB-974F-CC57CBED3FE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activities.macmillanmh.com/science/ca/scienceinmotion/Common/SIM.html?Module=../Grade5/Chapter7-SeparatingMixtures/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bbc.co.uk/schools" TargetMode="External"/><Relationship Id="rId2" Type="http://schemas.openxmlformats.org/officeDocument/2006/relationships/hyperlink" Target="http://www.bbc.co.uk/schools" TargetMode="External"/><Relationship Id="rId3" Type="http://schemas.openxmlformats.org/officeDocument/2006/relationships/hyperlink" Target="http://www.bbc.co.uk/schools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Water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resources.schoolscience.co.uk/ICI/11-14/materials/match3pg1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zephyrus.co.uk/separatingmixtures3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orrespondence.school.nz/departments/science/chemistry/web/home/chemistry/substances/mixture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ESSON 1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4876560" cy="487692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4">
            <a:hlinkClick r:id="" action="ppaction://hlinkshowjump?jump=nextslide"/>
          </p:cNvPr>
          <p:cNvSpPr/>
          <p:nvPr/>
        </p:nvSpPr>
        <p:spPr>
          <a:xfrm>
            <a:off x="6324480" y="6019920"/>
            <a:ext cx="2590920" cy="457200"/>
          </a:xfrm>
          <a:prstGeom prst="rightArrow">
            <a:avLst>
              <a:gd name="adj1" fmla="val 50000"/>
              <a:gd name="adj2" fmla="val 14167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terogeneous mixtur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074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Verdana"/>
              </a:rPr>
              <a:t>Heterogeneous mixtures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are mixtures that do not appear to be the same throughout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 particles that are large enough to be seen they can be separated from the mixtur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individual substances may be in a different phase (state of matter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cre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each sand is heterogeneous since you can see different colored particl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inegar and oil salad dressing is heterogeneous since two liquid layers are present, as well as solids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AutoShape 4">
            <a:hlinkClick r:id="" action="ppaction://hlinkshowjump?jump=nextslide"/>
          </p:cNvPr>
          <p:cNvSpPr/>
          <p:nvPr/>
        </p:nvSpPr>
        <p:spPr>
          <a:xfrm>
            <a:off x="5334120" y="632448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mogeneous mixtur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Verdana"/>
              </a:rPr>
              <a:t>Homogenous mixtures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appear to be the same throughout.  There are not particles floating around that you can se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individual substances are found in the same phase (state of matter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rn oil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hite vinega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 sugar solu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 salt solu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Separating Mixtures: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How would you separate the mixtures below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8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Beach sand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8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Vinegar and oil salad dressing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8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A sugar solution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1371600" y="3809880"/>
            <a:ext cx="73137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re are several methods of separating mixtures…go to the next slide and complete the activity to learn about a few separation metho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85800" y="304920"/>
            <a:ext cx="7467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eparating Mixtur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16002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activities.macmillanmh.com/science/ca/scienceinmotion/Common/SIM.html?Module=../Grade5/Chapter7-SeparatingMixtures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2489040"/>
            <a:ext cx="845820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link above and complete the following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ch the video and record notes in your science notebook showing the various methods of separating mixtures present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“Next” when finished to watch real examples of these methods in use.  If you left something out of your original notes, add it now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“Next” to complete the quiz game show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each of your group members’ names in the space for your name and select any character you lik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the six questions and record your scor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AutoShape 4">
            <a:hlinkClick r:id="" action="ppaction://hlinkshowjump?jump=nextslide"/>
          </p:cNvPr>
          <p:cNvSpPr/>
          <p:nvPr/>
        </p:nvSpPr>
        <p:spPr>
          <a:xfrm>
            <a:off x="5334120" y="640080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143000" y="123480"/>
            <a:ext cx="731376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mixture made of solid particles of different sizes, for example sand and gravel, can be separated by putting it through a siev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Illustration of sieve with gravel staying in sieve and sand falling through into a pile below"/>
          <p:cNvPicPr/>
          <p:nvPr/>
        </p:nvPicPr>
        <p:blipFill>
          <a:blip r:embed="rId1"/>
          <a:stretch/>
        </p:blipFill>
        <p:spPr>
          <a:xfrm>
            <a:off x="1295280" y="2446200"/>
            <a:ext cx="7086600" cy="44118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2819520" y="6400800"/>
            <a:ext cx="1052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ttp://www.bbc.co.uk/school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AutoShape 4">
            <a:hlinkClick r:id="" action="ppaction://hlinkshowjump?jump=nextslide"/>
          </p:cNvPr>
          <p:cNvSpPr/>
          <p:nvPr/>
        </p:nvSpPr>
        <p:spPr>
          <a:xfrm>
            <a:off x="7010280" y="6019920"/>
            <a:ext cx="1905120" cy="457200"/>
          </a:xfrm>
          <a:prstGeom prst="rightArrow">
            <a:avLst>
              <a:gd name="adj1" fmla="val 50000"/>
              <a:gd name="adj2" fmla="val 10417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990720" y="76320"/>
            <a:ext cx="761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mixture of water and an insoluble substance like sand can be separated by filtering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6183360" y="6613560"/>
            <a:ext cx="19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ttp://www.bbc.co.uk/school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5" descr="Illustration of sand in filter and water dropping into beaker beneath"/>
          <p:cNvPicPr/>
          <p:nvPr/>
        </p:nvPicPr>
        <p:blipFill>
          <a:blip r:embed="rId1"/>
          <a:stretch/>
        </p:blipFill>
        <p:spPr>
          <a:xfrm>
            <a:off x="3200400" y="1714680"/>
            <a:ext cx="3024360" cy="514332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4">
            <a:hlinkClick r:id="" action="ppaction://hlinkshowjump?jump=nextslide"/>
          </p:cNvPr>
          <p:cNvSpPr/>
          <p:nvPr/>
        </p:nvSpPr>
        <p:spPr>
          <a:xfrm>
            <a:off x="7010280" y="6019920"/>
            <a:ext cx="1905120" cy="457200"/>
          </a:xfrm>
          <a:prstGeom prst="rightArrow">
            <a:avLst>
              <a:gd name="adj1" fmla="val 50000"/>
              <a:gd name="adj2" fmla="val 10417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Conclusions: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 In your notes, copy and answer the following question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ame and draw a mixture that shows separation with a sieve.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ame and draw a mixture that shows separation by filtering.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AutoShape 4">
            <a:hlinkClick r:id="" action="ppaction://hlinkshowjump?jump=nextslide"/>
          </p:cNvPr>
          <p:cNvSpPr/>
          <p:nvPr/>
        </p:nvSpPr>
        <p:spPr>
          <a:xfrm>
            <a:off x="5334120" y="609588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ESSON 2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438280" y="2133720"/>
            <a:ext cx="4876920" cy="389556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udent Objective</a:t>
            </a:r>
            <a:br>
              <a:rPr sz="3600"/>
            </a:br>
            <a:fld id="{56915B9E-B4F5-4D8A-92A9-8DA73B676E8A}" type="datetime2">
              <a:rPr b="1" lang="en-US" sz="1800" spc="-1" strike="noStrike">
                <a:solidFill>
                  <a:srgbClr val="006666"/>
                </a:solidFill>
                <a:latin typeface="Arial"/>
              </a:rPr>
              <a:t>Thursday, July 30, 2026</a:t>
            </a:fld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66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Verdana"/>
              </a:rPr>
              <a:t>Students will be able to…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assify matter into mixtures and pure substanc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fine the term “mixture”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dentify examples of mixtur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dentify methods for separating mixtur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estion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2064"/>
              </a:spcBef>
              <a:buClr>
                <a:srgbClr val="00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Why is a chocolate chip cookie considered a mixture?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62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iscuss with your group and answer in your science notebook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990720" y="3429000"/>
            <a:ext cx="71625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Mixtures and Separation</a:t>
            </a:r>
            <a:br>
              <a:rPr sz="4400"/>
            </a:b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My Computer…K-Shared Drive…Cris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2244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Students will be able to…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lassify matter into mixtures and pure substanc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the term “mixture”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dentify 10 examples of mixtur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dentify, define and give an example of the 2 types of mixtur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dentify and describe 4 methods for separating mixtur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586728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AKE NOTES 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hocolate Chip Cooki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y are mixtures because they are made up of 2 different substances mixed together (cookie and chocolate chips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individual parts keep their original properti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parts can be separated easily by physical mea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133360" cy="123192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4571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6666"/>
                </a:solidFill>
                <a:uFillTx/>
                <a:latin typeface="Arial"/>
              </a:rPr>
              <a:t>Review: What is a </a:t>
            </a:r>
            <a:r>
              <a:rPr b="1" lang="en-US" sz="4400" spc="-1" strike="noStrike" u="sng">
                <a:solidFill>
                  <a:srgbClr val="006666"/>
                </a:solidFill>
                <a:uFillTx/>
                <a:latin typeface="Arial"/>
              </a:rPr>
              <a:t>mixture</a:t>
            </a:r>
            <a:r>
              <a:rPr b="1" lang="en-US" sz="4400" spc="-1" strike="noStrike" u="sng">
                <a:solidFill>
                  <a:srgbClr val="006666"/>
                </a:solidFill>
                <a:uFillTx/>
                <a:latin typeface="Arial"/>
              </a:rPr>
              <a:t>?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 </a:t>
            </a: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mixture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6666"/>
                </a:solidFill>
                <a:latin typeface="Arial"/>
              </a:rPr>
              <a:t>is a </a:t>
            </a:r>
            <a:r>
              <a:rPr b="0" i="1" lang="en-US" sz="3200" spc="-1" strike="noStrike">
                <a:solidFill>
                  <a:srgbClr val="006666"/>
                </a:solidFill>
                <a:latin typeface="Arial"/>
              </a:rPr>
              <a:t>combination of two or more substances that can be separated by physical means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 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Each substance in a mixture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keeps its individual properties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66"/>
                </a:solidFill>
                <a:uFillTx/>
                <a:latin typeface="Arial"/>
              </a:rPr>
              <a:t>Separation Methods: 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Using a </a:t>
            </a:r>
            <a:r>
              <a:rPr b="0" i="1" lang="en-US" sz="3600" spc="-1" strike="noStrike">
                <a:solidFill>
                  <a:srgbClr val="006666"/>
                </a:solidFill>
                <a:latin typeface="Arial"/>
              </a:rPr>
              <a:t>sieve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or </a:t>
            </a:r>
            <a:r>
              <a:rPr b="0" i="1" lang="en-US" sz="3600" spc="-1" strike="noStrike">
                <a:solidFill>
                  <a:srgbClr val="006666"/>
                </a:solidFill>
                <a:latin typeface="Arial"/>
              </a:rPr>
              <a:t>fil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4267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ixture made of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id particles of differ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s, for example san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rocks, can b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75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d by putting it        through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ev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990720" y="6613560"/>
            <a:ext cx="1052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www.bbc.co.uk</a:t>
            </a:r>
            <a:r>
              <a:rPr b="0" lang="en-US" sz="10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/school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ttp://www.bbc.co.uk/school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105520" y="17524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ixture of water and an insoluble substance like sand can be separated by filter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7" descr="Illustration of sand in filter and water dropping into beaker beneath"/>
          <p:cNvPicPr/>
          <p:nvPr/>
        </p:nvPicPr>
        <p:blipFill>
          <a:blip r:embed="rId4"/>
          <a:stretch/>
        </p:blipFill>
        <p:spPr>
          <a:xfrm>
            <a:off x="5562720" y="3352680"/>
            <a:ext cx="1904760" cy="323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7" name="Picture 8" descr=""/>
          <p:cNvPicPr/>
          <p:nvPr/>
        </p:nvPicPr>
        <p:blipFill>
          <a:blip r:embed="rId5"/>
          <a:stretch/>
        </p:blipFill>
        <p:spPr>
          <a:xfrm>
            <a:off x="533520" y="3886200"/>
            <a:ext cx="4381560" cy="275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8" name="AutoShape 4">
            <a:hlinkClick r:id="" action="ppaction://hlinkshowjump?jump=nextslide"/>
          </p:cNvPr>
          <p:cNvSpPr/>
          <p:nvPr/>
        </p:nvSpPr>
        <p:spPr>
          <a:xfrm>
            <a:off x="7543800" y="601992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ther Separation Methods….see the next slide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Filtration:</a:t>
            </a:r>
            <a:r>
              <a:rPr b="1" lang="en-US" sz="31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3100" spc="-1" strike="noStrike">
                <a:solidFill>
                  <a:srgbClr val="008000"/>
                </a:solidFill>
                <a:latin typeface="Arial"/>
                <a:ea typeface="Arial"/>
              </a:rPr>
              <a:t>Used for separating a </a:t>
            </a:r>
            <a:r>
              <a:rPr b="0" lang="en-US" sz="31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solid</a:t>
            </a:r>
            <a:r>
              <a:rPr b="0" lang="en-US" sz="3100" spc="-1" strike="noStrike">
                <a:solidFill>
                  <a:srgbClr val="008000"/>
                </a:solidFill>
                <a:latin typeface="Arial"/>
                <a:ea typeface="Arial"/>
              </a:rPr>
              <a:t> from a liquid</a:t>
            </a:r>
            <a:r>
              <a:rPr b="0" lang="en-US" sz="31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endParaRPr b="0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Separating SAND from wat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19" descr=""/>
          <p:cNvPicPr/>
          <p:nvPr/>
        </p:nvPicPr>
        <p:blipFill>
          <a:blip r:embed="rId1"/>
          <a:stretch/>
        </p:blipFill>
        <p:spPr>
          <a:xfrm>
            <a:off x="3232080" y="2286000"/>
            <a:ext cx="3397320" cy="42480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0"/>
          <p:cNvSpPr/>
          <p:nvPr/>
        </p:nvSpPr>
        <p:spPr>
          <a:xfrm>
            <a:off x="1981080" y="6400800"/>
            <a:ext cx="600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moe.gov.sg/edumall/tl/digital_resources/chemistry8.ht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AutoShape 4">
            <a:hlinkClick r:id="" action="ppaction://hlinkshowjump?jump=nextslide"/>
          </p:cNvPr>
          <p:cNvSpPr/>
          <p:nvPr/>
        </p:nvSpPr>
        <p:spPr>
          <a:xfrm>
            <a:off x="6858000" y="6019920"/>
            <a:ext cx="2057400" cy="457200"/>
          </a:xfrm>
          <a:prstGeom prst="rightArrow">
            <a:avLst>
              <a:gd name="adj1" fmla="val 50000"/>
              <a:gd name="adj2" fmla="val 1125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80"/>
                </a:solidFill>
                <a:uFillTx/>
                <a:latin typeface="Arial"/>
                <a:ea typeface="Arial"/>
              </a:rPr>
              <a:t>Evaporation:</a:t>
            </a:r>
            <a:r>
              <a:rPr b="1" lang="en-US" sz="3200" spc="-1" strike="noStrike">
                <a:solidFill>
                  <a:srgbClr val="000080"/>
                </a:solidFill>
                <a:latin typeface="Arial"/>
                <a:ea typeface="Arial"/>
              </a:rPr>
              <a:t> </a:t>
            </a:r>
            <a:r>
              <a:rPr b="0" lang="en-US" sz="3100" spc="-1" strike="noStrike">
                <a:solidFill>
                  <a:srgbClr val="000080"/>
                </a:solidFill>
                <a:latin typeface="Arial"/>
                <a:ea typeface="Arial"/>
              </a:rPr>
              <a:t>Used to obtain the </a:t>
            </a:r>
            <a:r>
              <a:rPr b="0" lang="en-US" sz="3100" spc="-1" strike="noStrike" u="sng">
                <a:solidFill>
                  <a:srgbClr val="000080"/>
                </a:solidFill>
                <a:uFillTx/>
                <a:latin typeface="Arial"/>
                <a:ea typeface="Arial"/>
              </a:rPr>
              <a:t>solute</a:t>
            </a:r>
            <a:r>
              <a:rPr b="0" lang="en-US" sz="3100" spc="-1" strike="noStrike">
                <a:solidFill>
                  <a:srgbClr val="000080"/>
                </a:solidFill>
                <a:latin typeface="Arial"/>
                <a:ea typeface="Arial"/>
              </a:rPr>
              <a:t> from a solution</a:t>
            </a:r>
            <a:r>
              <a:rPr b="0" lang="en-US" sz="3100" spc="-1" strike="noStrike">
                <a:solidFill>
                  <a:srgbClr val="000080"/>
                </a:solidFill>
                <a:latin typeface="Arial"/>
                <a:ea typeface="Arial"/>
              </a:rPr>
              <a:t>	</a:t>
            </a:r>
            <a:endParaRPr b="0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  <a:ea typeface="Arial"/>
              </a:rPr>
              <a:t>For obtaining SUGAR (</a:t>
            </a:r>
            <a:r>
              <a:rPr b="0" lang="en-US" sz="2400" spc="-1" strike="noStrike" u="sng">
                <a:solidFill>
                  <a:srgbClr val="000080"/>
                </a:solidFill>
                <a:uFillTx/>
                <a:latin typeface="Arial"/>
                <a:ea typeface="Arial"/>
              </a:rPr>
              <a:t>solute)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  <a:ea typeface="Arial"/>
              </a:rPr>
              <a:t> from sugar wa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2209680" y="2666880"/>
            <a:ext cx="4024440" cy="389736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4">
            <a:hlinkClick r:id="" action="ppaction://hlinkshowjump?jump=nextslide"/>
          </p:cNvPr>
          <p:cNvSpPr/>
          <p:nvPr/>
        </p:nvSpPr>
        <p:spPr>
          <a:xfrm>
            <a:off x="6553080" y="6019920"/>
            <a:ext cx="2362320" cy="457200"/>
          </a:xfrm>
          <a:prstGeom prst="rightArrow">
            <a:avLst>
              <a:gd name="adj1" fmla="val 50000"/>
              <a:gd name="adj2" fmla="val 12917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Simple Distillation:</a:t>
            </a:r>
            <a:r>
              <a:rPr b="1" lang="en-US" sz="27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Used to obtain the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solvent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 from a solution.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imple distillation is usually used only to separate liquids whose boiling points differ greatly.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endParaRPr b="0" lang="en-US" sz="2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For obtaining pure water (</a:t>
            </a:r>
            <a:r>
              <a:rPr b="0" lang="en-US" sz="24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solvent)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 from sea wa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5" descr="simple_distillation2"/>
          <p:cNvPicPr/>
          <p:nvPr/>
        </p:nvPicPr>
        <p:blipFill>
          <a:blip r:embed="rId1"/>
          <a:srcRect l="0" t="0" r="4000" b="2669"/>
          <a:stretch/>
        </p:blipFill>
        <p:spPr>
          <a:xfrm>
            <a:off x="2590920" y="2685960"/>
            <a:ext cx="5486400" cy="417204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6"/>
          <p:cNvSpPr/>
          <p:nvPr/>
        </p:nvSpPr>
        <p:spPr>
          <a:xfrm>
            <a:off x="205200" y="6400800"/>
            <a:ext cx="511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moe.gov.sg/edumall/tl/digital_resources/chemistry8.ht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AutoShape 4">
            <a:hlinkClick r:id="" action="ppaction://hlinkshowjump?jump=nextslide"/>
          </p:cNvPr>
          <p:cNvSpPr/>
          <p:nvPr/>
        </p:nvSpPr>
        <p:spPr>
          <a:xfrm>
            <a:off x="7696080" y="6019920"/>
            <a:ext cx="1219320" cy="457200"/>
          </a:xfrm>
          <a:prstGeom prst="rightArrow">
            <a:avLst>
              <a:gd name="adj1" fmla="val 50000"/>
              <a:gd name="adj2" fmla="val 6667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80"/>
                </a:solidFill>
                <a:uFillTx/>
                <a:latin typeface="Arial"/>
                <a:ea typeface="Arial"/>
              </a:rPr>
              <a:t>Fractional Distillation:</a:t>
            </a:r>
            <a:r>
              <a:rPr b="1" lang="en-US" sz="2800" spc="-1" strike="noStrike">
                <a:solidFill>
                  <a:srgbClr val="00008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  <a:ea typeface="Arial"/>
              </a:rPr>
              <a:t>Used to separate one liquid from a mixture of different liquids using the different boiling points to help.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distillation of a mixture of </a:t>
            </a: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ater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 and ethanol alcohol. Ethanol boils at 78.5 °C while water boils at 100 °C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2"/>
          <a:stretch/>
        </p:blipFill>
        <p:spPr>
          <a:xfrm>
            <a:off x="1752480" y="3025800"/>
            <a:ext cx="5257800" cy="383220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4">
            <a:hlinkClick r:id="" action="ppaction://hlinkshowjump?jump=nextslide"/>
          </p:cNvPr>
          <p:cNvSpPr/>
          <p:nvPr/>
        </p:nvSpPr>
        <p:spPr>
          <a:xfrm>
            <a:off x="7086600" y="6019920"/>
            <a:ext cx="1828800" cy="4572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01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Chromatography: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3100" spc="-1" strike="noStrike">
                <a:solidFill>
                  <a:srgbClr val="008000"/>
                </a:solidFill>
                <a:latin typeface="Arial"/>
                <a:ea typeface="Arial"/>
              </a:rPr>
              <a:t>Used to separate out one color from a mixture of colors</a:t>
            </a:r>
            <a:r>
              <a:rPr b="0" lang="en-US" sz="31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endParaRPr b="0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For separating out the colors in black i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3200400" y="2362320"/>
            <a:ext cx="3962520" cy="386532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5"/>
          <p:cNvSpPr/>
          <p:nvPr/>
        </p:nvSpPr>
        <p:spPr>
          <a:xfrm>
            <a:off x="6095880" y="5105520"/>
            <a:ext cx="12956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lack in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-571680"/>
            <a:ext cx="8458200" cy="114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AD:  Summary of methods used to separate a mixture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762120" y="806400"/>
          <a:ext cx="8381880" cy="544680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it is used f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Filt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Used for separating a </a:t>
                      </a:r>
                      <a:r>
                        <a:rPr b="0" lang="en-US" sz="2000" spc="-1" strike="noStrike" u="sng">
                          <a:solidFill>
                            <a:srgbClr val="008000"/>
                          </a:solidFill>
                          <a:uFillTx/>
                          <a:latin typeface="Arial"/>
                          <a:ea typeface="Arial"/>
                        </a:rPr>
                        <a:t>solid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 from a liqu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Separating SAND from wate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Evapo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Used to obtain the </a:t>
                      </a:r>
                      <a:r>
                        <a:rPr b="0" lang="en-US" sz="2000" spc="-1" strike="noStrike" u="sng">
                          <a:solidFill>
                            <a:srgbClr val="000080"/>
                          </a:solidFill>
                          <a:uFillTx/>
                          <a:latin typeface="Arial"/>
                          <a:ea typeface="Arial"/>
                        </a:rPr>
                        <a:t>solute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from a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For obtaining SALT (</a:t>
                      </a:r>
                      <a:r>
                        <a:rPr b="0" lang="en-US" sz="2000" spc="-1" strike="noStrike" u="sng">
                          <a:solidFill>
                            <a:srgbClr val="000080"/>
                          </a:solidFill>
                          <a:uFillTx/>
                          <a:latin typeface="Arial"/>
                          <a:ea typeface="Arial"/>
                        </a:rPr>
                        <a:t>solute)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from salt 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Simple distil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Used to obtain the </a:t>
                      </a:r>
                      <a:r>
                        <a:rPr b="0" lang="en-US" sz="2000" spc="-1" strike="noStrike" u="sng">
                          <a:solidFill>
                            <a:srgbClr val="008000"/>
                          </a:solidFill>
                          <a:uFillTx/>
                          <a:latin typeface="Arial"/>
                          <a:ea typeface="Arial"/>
                        </a:rPr>
                        <a:t>solvent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 from a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For obtaining pure water (</a:t>
                      </a:r>
                      <a:r>
                        <a:rPr b="0" lang="en-US" sz="2000" spc="-1" strike="noStrike" u="sng">
                          <a:solidFill>
                            <a:srgbClr val="008000"/>
                          </a:solidFill>
                          <a:uFillTx/>
                          <a:latin typeface="Arial"/>
                          <a:ea typeface="Arial"/>
                        </a:rPr>
                        <a:t>solvent)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 from sea 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Fractional distil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Used to separate one liquid from a mixture of different liquids using the different boiling points to hel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Oxygen or nitrogen is obtained from air (a mixture of different gas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Chromatograph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Used to separate out one color from a mixture of col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For separating out the colors in black 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AutoShape 4">
            <a:hlinkClick r:id="" action="ppaction://hlinkshowjump?jump=nextslide"/>
          </p:cNvPr>
          <p:cNvSpPr/>
          <p:nvPr/>
        </p:nvSpPr>
        <p:spPr>
          <a:xfrm>
            <a:off x="5334120" y="632448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91404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xtures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are two or more substances that are not chemically combined and they can be physically separated.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  **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dd this word to your science notebook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25909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Which of the substances below are “mixtures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”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and, soil, chicken soup, pizza, chocola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ip cookies,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alt wat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04920" y="49528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ll of the substances are mixtures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01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Activity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eparating  A Salt and Water Mixtur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.  Go to the site below and read about the ways to separate salt from water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2.  Complete the interactive section at the bottom of the page (question 14).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resources.schoolscience.co.uk/ICI/11-14/materials/match3pg1.htm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Brain Storm!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ow would you go about separating a mixture of </a:t>
            </a:r>
            <a:r>
              <a:rPr b="0" i="1" lang="en-US" sz="2900" spc="-1" strike="noStrike">
                <a:solidFill>
                  <a:srgbClr val="000000"/>
                </a:solidFill>
                <a:latin typeface="Arial"/>
              </a:rPr>
              <a:t>salt and sand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ith your group, list the procedure you would follow in your notebook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eck your method by comparing it to the method presented at the website below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www.zephyrus.co.uk/separatingmixtures3.htm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Conclusions: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Copy and answer this question in your science notebook. 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2120" y="1827360"/>
            <a:ext cx="792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006666"/>
                </a:solidFill>
                <a:uFillTx/>
                <a:latin typeface="Verdana"/>
              </a:rPr>
              <a:t>Complex Mixture Separation: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could you separate a sand, salt, iron filings and marbles mixture? Explain, using pictures or diagrams to help your answ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YOU COMPLETED THE LESSON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lease see Mr. Mihalyov to share what you learned and determine your next step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8377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In a  </a:t>
            </a:r>
            <a:r>
              <a:rPr b="1" lang="en-US" sz="4400" spc="-1" strike="noStrike" u="sng">
                <a:solidFill>
                  <a:srgbClr val="006666"/>
                </a:solidFill>
                <a:uFillTx/>
                <a:latin typeface="Arial"/>
              </a:rPr>
              <a:t>mixture</a:t>
            </a: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 ….</a:t>
            </a:r>
            <a:br>
              <a:rPr sz="44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533520" y="2805120"/>
            <a:ext cx="8305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*Each substance in the mixture keeps its individual properties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85800" y="4343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*The substances can be separated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by physical mean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6666"/>
                </a:solidFill>
                <a:latin typeface="Arial"/>
              </a:rPr>
              <a:t>Think about </a:t>
            </a:r>
            <a:r>
              <a:rPr b="0" i="1" lang="en-US" sz="2800" spc="-1" strike="noStrike" u="sng">
                <a:solidFill>
                  <a:srgbClr val="006666"/>
                </a:solidFill>
                <a:uFillTx/>
                <a:latin typeface="Arial"/>
              </a:rPr>
              <a:t>why</a:t>
            </a:r>
            <a:r>
              <a:rPr b="0" i="1" lang="en-US" sz="2800" spc="-1" strike="noStrike">
                <a:solidFill>
                  <a:srgbClr val="006666"/>
                </a:solidFill>
                <a:latin typeface="Arial"/>
              </a:rPr>
              <a:t> they are mixtures??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S OF MIXTURES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 algn="ctr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ctr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6" descr="conglomeraterockimage"/>
          <p:cNvPicPr/>
          <p:nvPr/>
        </p:nvPicPr>
        <p:blipFill>
          <a:blip r:embed="rId1"/>
          <a:stretch/>
        </p:blipFill>
        <p:spPr>
          <a:xfrm>
            <a:off x="914400" y="2133720"/>
            <a:ext cx="2708280" cy="1646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pepsioneimage"/>
          <p:cNvPicPr/>
          <p:nvPr/>
        </p:nvPicPr>
        <p:blipFill>
          <a:blip r:embed="rId2"/>
          <a:stretch/>
        </p:blipFill>
        <p:spPr>
          <a:xfrm>
            <a:off x="4648320" y="4267080"/>
            <a:ext cx="650880" cy="1235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hamburgerimage"/>
          <p:cNvPicPr/>
          <p:nvPr/>
        </p:nvPicPr>
        <p:blipFill>
          <a:blip r:embed="rId3"/>
          <a:stretch/>
        </p:blipFill>
        <p:spPr>
          <a:xfrm>
            <a:off x="6095880" y="2286000"/>
            <a:ext cx="2194200" cy="16462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991440" y="3886200"/>
            <a:ext cx="2503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RO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ixture o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kinds of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3734280" y="5638680"/>
            <a:ext cx="257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SO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ixture o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ar and wa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5790240" y="4114800"/>
            <a:ext cx="325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SANDWI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ix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bread, meat, toma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AutoShape 4">
            <a:hlinkClick r:id="" action="ppaction://hlinkshowjump?jump=nextslide"/>
          </p:cNvPr>
          <p:cNvSpPr/>
          <p:nvPr/>
        </p:nvSpPr>
        <p:spPr>
          <a:xfrm>
            <a:off x="6477120" y="6019920"/>
            <a:ext cx="2438280" cy="457200"/>
          </a:xfrm>
          <a:prstGeom prst="rightArrow">
            <a:avLst>
              <a:gd name="adj1" fmla="val 50000"/>
              <a:gd name="adj2" fmla="val 1333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12949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Activity 1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90360" y="342756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000000"/>
                </a:solidFill>
                <a:uFillTx/>
                <a:latin typeface="Verdana"/>
              </a:rPr>
              <a:t>Internet Activity: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Mixtures, Substances, Elements, and Compounds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roduction to Internet Activit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t’s pretend we have an extremely powerful microscope that can allow us to see the atoms of various thing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following website should allow us to see the differences in elements, compounds, and mixtur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ernet Activit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he link below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n, close the website (x out) and  come back to the PowerPoint when you have finished the activ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Mixtures, Compounds, Elements Websi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There are  2 types of mixtures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2:48:28Z</dcterms:created>
  <dc:creator>ccps</dc:creator>
  <dc:description/>
  <dc:language>en-US</dc:language>
  <cp:lastModifiedBy>ccps</cp:lastModifiedBy>
  <dcterms:modified xsi:type="dcterms:W3CDTF">2009-12-16T20:26:16Z</dcterms:modified>
  <cp:revision>25</cp:revision>
  <dc:subject/>
  <dc:title>Slide 1</dc:title>
</cp:coreProperties>
</file>