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BB9D-596C-49A5-A825-EE2B11EF71B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F28F-E8FE-461D-A2EB-A0086AD1FB7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8DEE-ADAD-492D-9223-E3F6DC44B32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F3AD-9179-4716-83AF-98482F21260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8774-6255-4F91-B124-C6A8E26A584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5067-8700-48B6-94A4-DEAD2AC6190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E230-F7A2-4BFF-AEC3-9C1727F0DB3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DCB1-0B08-499B-B70A-034BFFE1FF5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0DD6-97C4-49BE-92A8-EDFB87A05A5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A18D-6DBC-45E9-B0F6-735740AF513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72E4-31DD-4D64-9B06-ADFBECA5B5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D6D4-089F-4A3E-8F3C-C81185A520C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83F1-F7DD-42A5-9680-129C7AADC61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CD79-AFB5-4229-BF3A-D617C8EA056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002D-3711-40CE-8135-8A00C6E2C3D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4DD5-2ADE-4AB6-AF84-107541F23D4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F946-3D78-479B-8752-75BD5337FD5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53DB-B489-4D54-A70D-7FD667287E9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7E3B-D5D2-4A85-96C7-1807067FF2D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FDC1-7756-452B-8181-FC976F29704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8F4B-0BC6-4987-81CD-B9A84DDF363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85C3-CA28-4965-B361-532473DD71F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4A16-9AD9-44AE-9437-1DDBA466632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D34F-88AC-436D-B639-61DACC6F062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F08E-1B9E-47A2-A780-5706D85F085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7007-2DD0-444F-B135-1A7BE1ADFA3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FF56-280E-4834-9542-BCB92F6BE97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6820-E3EB-44B8-A058-B3F37A51318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4640-8817-488B-A6BF-662918E7E11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99A1-3037-4B3F-A108-AEC8A694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28B3-8E68-442F-B2F0-EA99D808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CDDD-89A7-4479-9368-7FA2A5E6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BC3F-A756-48BA-8E21-EBEE8E7F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2BD0-D4EE-4934-B319-2A760571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4383-E373-4BF9-B83B-0D648568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4453-30F4-41C2-AE2B-09F518ED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AEE1-045A-4F40-8000-9ED2C8FE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E597-4EB1-4C09-A3B5-F55C3AAB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559E-B516-4919-8CB8-94A31D8E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8DDC-5768-4E9F-9D0D-B69956C4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1D20-572A-4A76-9C4D-EDB10221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D0FB-B5FB-447D-9AF5-AB71887E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59F7-A46C-45B6-8F47-ABA2F67E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028B-3C92-4928-B4BF-701DE1C3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9DA8-AFBA-46FA-8477-0D96C75B4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4153-135E-42E6-BB67-49957189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CA99-3BA7-4324-AF10-22BBC073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312D-C7BC-4D70-A935-BF8E17B1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450C-D453-4224-949E-C20532E3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5537-DB4B-4614-AC00-A3F7D34D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FA40-7ED4-4725-BC48-E0642196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EBC5-9769-4D87-A447-892B5E90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8057-3691-49FC-9235-0617F3C4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72C4-0AF9-454F-93A5-0798368B406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E03A-49CB-4F63-919A-27E487CF1C5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activities.macmillanmh.com/science/ca/scienceinmotion/Common/SIM.html?Module=../Grade5/Chapter7-SeparatingMixtures/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bbc.co.uk/schools" TargetMode="External"/><Relationship Id="rId2" Type="http://schemas.openxmlformats.org/officeDocument/2006/relationships/hyperlink" Target="http://www.bbc.co.uk/schools" TargetMode="External"/><Relationship Id="rId3" Type="http://schemas.openxmlformats.org/officeDocument/2006/relationships/hyperlink" Target="http://www.bbc.co.uk/schools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Water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resources.schoolscience.co.uk/ICI/11-14/materials/match3pg1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zephyrus.co.uk/separatingmixtures3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orrespondence.school.nz/departments/science/chemistry/web/home/chemistry/substances/mixture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ESSON 1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4876560" cy="487692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4">
            <a:hlinkClick r:id="" action="ppaction://hlinkshowjump?jump=nextslide"/>
          </p:cNvPr>
          <p:cNvSpPr/>
          <p:nvPr/>
        </p:nvSpPr>
        <p:spPr>
          <a:xfrm>
            <a:off x="6324480" y="6019920"/>
            <a:ext cx="2590920" cy="457200"/>
          </a:xfrm>
          <a:prstGeom prst="rightArrow">
            <a:avLst>
              <a:gd name="adj1" fmla="val 50000"/>
              <a:gd name="adj2" fmla="val 14167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terogeneous mixtu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074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Verdana"/>
              </a:rPr>
              <a:t>Heterogeneous mixtures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are mixtures that do not appear to be the same throughout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 particles that are large enough to be seen they can be separated from the mixtur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individual substances may be in a different phase (state of matter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cre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each sand is heterogeneous since you can see different colored particl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inegar and oil salad dressing is heterogeneous since two liquid layers are present, as well as solids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AutoShape 4">
            <a:hlinkClick r:id="" action="ppaction://hlinkshowjump?jump=nextslide"/>
          </p:cNvPr>
          <p:cNvSpPr/>
          <p:nvPr/>
        </p:nvSpPr>
        <p:spPr>
          <a:xfrm>
            <a:off x="5334120" y="632448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mogeneous mixtu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Verdana"/>
              </a:rPr>
              <a:t>Homogenous mixtures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appear to be the same throughout.  There are not particles floating around that you can se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individual substances are found in the same phase (state of matter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rn oil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hite vinega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sugar solu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salt solu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Separating Mixtures: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How would you separate the mixtures below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8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Beach sand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8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Vinegar and oil salad dressing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8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A sugar solution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371600" y="3809880"/>
            <a:ext cx="73137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re are several methods of separating mixtures…go to the next slide and complete the activity to learn about a few separation metho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85800" y="304920"/>
            <a:ext cx="7467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eparating Mixtur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16002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activities.macmillanmh.com/science/ca/scienceinmotion/Common/SIM.html?Module=../Grade5/Chapter7-SeparatingMixtures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2489040"/>
            <a:ext cx="845820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link above and complete the followin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ch the video and record notes in your science notebook showing the various methods of separating mixtures present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“Next” when finished to watch real examples of these methods in use.  If you left something out of your original notes, add it now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“Next” to complete the quiz game show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each of your group members’ names in the space for your name and select any character you lik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the six questions and record your sco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AutoShape 4">
            <a:hlinkClick r:id="" action="ppaction://hlinkshowjump?jump=nextslide"/>
          </p:cNvPr>
          <p:cNvSpPr/>
          <p:nvPr/>
        </p:nvSpPr>
        <p:spPr>
          <a:xfrm>
            <a:off x="5334120" y="640080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43000" y="123480"/>
            <a:ext cx="73137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mixture made of solid particles of different sizes, for example sand and gravel, can be separated by putting it through a siev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Illustration of sieve with gravel staying in sieve and sand falling through into a pile below"/>
          <p:cNvPicPr/>
          <p:nvPr/>
        </p:nvPicPr>
        <p:blipFill>
          <a:blip r:embed="rId1"/>
          <a:stretch/>
        </p:blipFill>
        <p:spPr>
          <a:xfrm>
            <a:off x="1295280" y="2446200"/>
            <a:ext cx="7086600" cy="44118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2819520" y="6400800"/>
            <a:ext cx="1052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ttp://www.bbc.co.uk/school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AutoShape 4">
            <a:hlinkClick r:id="" action="ppaction://hlinkshowjump?jump=nextslide"/>
          </p:cNvPr>
          <p:cNvSpPr/>
          <p:nvPr/>
        </p:nvSpPr>
        <p:spPr>
          <a:xfrm>
            <a:off x="7010280" y="6019920"/>
            <a:ext cx="1905120" cy="457200"/>
          </a:xfrm>
          <a:prstGeom prst="rightArrow">
            <a:avLst>
              <a:gd name="adj1" fmla="val 50000"/>
              <a:gd name="adj2" fmla="val 10417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990720" y="76320"/>
            <a:ext cx="761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mixture of water and an insoluble substance like sand can be separated by filtering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6183360" y="6613560"/>
            <a:ext cx="19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ttp://www.bbc.co.uk/school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5" descr="Illustration of sand in filter and water dropping into beaker beneath"/>
          <p:cNvPicPr/>
          <p:nvPr/>
        </p:nvPicPr>
        <p:blipFill>
          <a:blip r:embed="rId1"/>
          <a:stretch/>
        </p:blipFill>
        <p:spPr>
          <a:xfrm>
            <a:off x="3200400" y="1714680"/>
            <a:ext cx="3024360" cy="514332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4">
            <a:hlinkClick r:id="" action="ppaction://hlinkshowjump?jump=nextslide"/>
          </p:cNvPr>
          <p:cNvSpPr/>
          <p:nvPr/>
        </p:nvSpPr>
        <p:spPr>
          <a:xfrm>
            <a:off x="7010280" y="6019920"/>
            <a:ext cx="1905120" cy="457200"/>
          </a:xfrm>
          <a:prstGeom prst="rightArrow">
            <a:avLst>
              <a:gd name="adj1" fmla="val 50000"/>
              <a:gd name="adj2" fmla="val 10417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Conclusions: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 In your notes, copy and answer the following question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ame and draw a mixture that shows separation with a sieve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ame and draw a mixture that shows separation by filtering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AutoShape 4">
            <a:hlinkClick r:id="" action="ppaction://hlinkshowjump?jump=nextslide"/>
          </p:cNvPr>
          <p:cNvSpPr/>
          <p:nvPr/>
        </p:nvSpPr>
        <p:spPr>
          <a:xfrm>
            <a:off x="5334120" y="609588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ESSON 2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438280" y="2133720"/>
            <a:ext cx="4876920" cy="389556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udent Objective</a:t>
            </a:r>
            <a:br>
              <a:rPr sz="3600"/>
            </a:br>
            <a:fld id="{9D7E54B7-2B5A-406F-9DBF-EFDBF921BC5A}" type="datetime2">
              <a:rPr b="1" lang="en-US" sz="1800" spc="-1" strike="noStrike">
                <a:solidFill>
                  <a:srgbClr val="006666"/>
                </a:solidFill>
                <a:latin typeface="Arial"/>
              </a:rPr>
              <a:t>Tuesday, July 28, 2026</a:t>
            </a:fld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Verdana"/>
              </a:rPr>
              <a:t>Students will be able to…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assify matter into mixtures and pure substanc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ine the term “mixture”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dentify examples of mixtu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dentify methods for separating mixtu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estion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2064"/>
              </a:spcBef>
              <a:buClr>
                <a:srgbClr val="00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Why is a chocolate chip cookie considered a mixture?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62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scuss with your group and answer in your science notebook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990720" y="3429000"/>
            <a:ext cx="71625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Mixtures and Separation</a:t>
            </a:r>
            <a:br>
              <a:rPr sz="4400"/>
            </a:b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y Computer…K-Shared Drive…Cris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2244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Students will be able to…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lassify matter into mixtures and pure substanc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the term “mixture”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dentify 10 examples of mixtur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dentify, define and give an example of the 2 types of mixtur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dentify and describe 4 methods for separating mixtur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586728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KE NOTES 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hocolate Chip Cooki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y are mixtures because they are made up of 2 different substances mixed together (cookie and chocolate chips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individual parts keep their original properti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parts can be separated easily by physical mea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133360" cy="123192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4571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6666"/>
                </a:solidFill>
                <a:uFillTx/>
                <a:latin typeface="Arial"/>
              </a:rPr>
              <a:t>Review: What is a </a:t>
            </a:r>
            <a:r>
              <a:rPr b="1" lang="en-US" sz="4400" spc="-1" strike="noStrike" u="sng">
                <a:solidFill>
                  <a:srgbClr val="006666"/>
                </a:solidFill>
                <a:uFillTx/>
                <a:latin typeface="Arial"/>
              </a:rPr>
              <a:t>mixture</a:t>
            </a:r>
            <a:r>
              <a:rPr b="1" lang="en-US" sz="4400" spc="-1" strike="noStrike" u="sng">
                <a:solidFill>
                  <a:srgbClr val="006666"/>
                </a:solidFill>
                <a:uFillTx/>
                <a:latin typeface="Arial"/>
              </a:rPr>
              <a:t>?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mixture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6666"/>
                </a:solidFill>
                <a:latin typeface="Arial"/>
              </a:rPr>
              <a:t>is a </a:t>
            </a:r>
            <a:r>
              <a:rPr b="0" i="1" lang="en-US" sz="3200" spc="-1" strike="noStrike">
                <a:solidFill>
                  <a:srgbClr val="006666"/>
                </a:solidFill>
                <a:latin typeface="Arial"/>
              </a:rPr>
              <a:t>combination of two or more substances that can be separated by physical means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 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Each substance in a mixture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keeps its individual properties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66"/>
                </a:solidFill>
                <a:uFillTx/>
                <a:latin typeface="Arial"/>
              </a:rPr>
              <a:t>Separation Methods: 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sing a </a:t>
            </a: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sieve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or </a:t>
            </a: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fil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4267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ixture made of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d particles of differ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s, for example san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rocks, can 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75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d by putting it        through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ev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990720" y="6613560"/>
            <a:ext cx="1052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www.bbc.co.uk</a:t>
            </a:r>
            <a:r>
              <a:rPr b="0" lang="en-US" sz="10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/school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ttp://www.bbc.co.uk/school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105520" y="17524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ixture of water and an insoluble substance like sand can be separated by filter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7" descr="Illustration of sand in filter and water dropping into beaker beneath"/>
          <p:cNvPicPr/>
          <p:nvPr/>
        </p:nvPicPr>
        <p:blipFill>
          <a:blip r:embed="rId4"/>
          <a:stretch/>
        </p:blipFill>
        <p:spPr>
          <a:xfrm>
            <a:off x="5562720" y="3352680"/>
            <a:ext cx="1904760" cy="32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7" name="Picture 8" descr=""/>
          <p:cNvPicPr/>
          <p:nvPr/>
        </p:nvPicPr>
        <p:blipFill>
          <a:blip r:embed="rId5"/>
          <a:stretch/>
        </p:blipFill>
        <p:spPr>
          <a:xfrm>
            <a:off x="533520" y="3886200"/>
            <a:ext cx="4381560" cy="275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8" name="AutoShape 4">
            <a:hlinkClick r:id="" action="ppaction://hlinkshowjump?jump=nextslide"/>
          </p:cNvPr>
          <p:cNvSpPr/>
          <p:nvPr/>
        </p:nvSpPr>
        <p:spPr>
          <a:xfrm>
            <a:off x="7543800" y="601992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ther Separation Methods….see the next slide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Filtration:</a:t>
            </a:r>
            <a:r>
              <a:rPr b="1" lang="en-US" sz="31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3100" spc="-1" strike="noStrike">
                <a:solidFill>
                  <a:srgbClr val="008000"/>
                </a:solidFill>
                <a:latin typeface="Arial"/>
                <a:ea typeface="Arial"/>
              </a:rPr>
              <a:t>Used for separating a </a:t>
            </a:r>
            <a:r>
              <a:rPr b="0" lang="en-US" sz="31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solid</a:t>
            </a:r>
            <a:r>
              <a:rPr b="0" lang="en-US" sz="3100" spc="-1" strike="noStrike">
                <a:solidFill>
                  <a:srgbClr val="008000"/>
                </a:solidFill>
                <a:latin typeface="Arial"/>
                <a:ea typeface="Arial"/>
              </a:rPr>
              <a:t> from a liquid</a:t>
            </a:r>
            <a:r>
              <a:rPr b="0" lang="en-US" sz="31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endParaRPr b="0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Separating SAND from wat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19" descr=""/>
          <p:cNvPicPr/>
          <p:nvPr/>
        </p:nvPicPr>
        <p:blipFill>
          <a:blip r:embed="rId1"/>
          <a:stretch/>
        </p:blipFill>
        <p:spPr>
          <a:xfrm>
            <a:off x="3232080" y="2286000"/>
            <a:ext cx="3397320" cy="42480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0"/>
          <p:cNvSpPr/>
          <p:nvPr/>
        </p:nvSpPr>
        <p:spPr>
          <a:xfrm>
            <a:off x="1981080" y="6400800"/>
            <a:ext cx="600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moe.gov.sg/edumall/tl/digital_resources/chemistry8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AutoShape 4">
            <a:hlinkClick r:id="" action="ppaction://hlinkshowjump?jump=nextslide"/>
          </p:cNvPr>
          <p:cNvSpPr/>
          <p:nvPr/>
        </p:nvSpPr>
        <p:spPr>
          <a:xfrm>
            <a:off x="6858000" y="6019920"/>
            <a:ext cx="2057400" cy="457200"/>
          </a:xfrm>
          <a:prstGeom prst="rightArrow">
            <a:avLst>
              <a:gd name="adj1" fmla="val 50000"/>
              <a:gd name="adj2" fmla="val 1125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80"/>
                </a:solidFill>
                <a:uFillTx/>
                <a:latin typeface="Arial"/>
                <a:ea typeface="Arial"/>
              </a:rPr>
              <a:t>Evaporation: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r>
              <a:rPr b="0" lang="en-US" sz="3100" spc="-1" strike="noStrike">
                <a:solidFill>
                  <a:srgbClr val="000080"/>
                </a:solidFill>
                <a:latin typeface="Arial"/>
                <a:ea typeface="Arial"/>
              </a:rPr>
              <a:t>Used to obtain the </a:t>
            </a:r>
            <a:r>
              <a:rPr b="0" lang="en-US" sz="3100" spc="-1" strike="noStrike" u="sng">
                <a:solidFill>
                  <a:srgbClr val="000080"/>
                </a:solidFill>
                <a:uFillTx/>
                <a:latin typeface="Arial"/>
                <a:ea typeface="Arial"/>
              </a:rPr>
              <a:t>solute</a:t>
            </a:r>
            <a:r>
              <a:rPr b="0" lang="en-US" sz="3100" spc="-1" strike="noStrike">
                <a:solidFill>
                  <a:srgbClr val="000080"/>
                </a:solidFill>
                <a:latin typeface="Arial"/>
                <a:ea typeface="Arial"/>
              </a:rPr>
              <a:t> from a solution</a:t>
            </a:r>
            <a:r>
              <a:rPr b="0" lang="en-US" sz="3100" spc="-1" strike="noStrike">
                <a:solidFill>
                  <a:srgbClr val="000080"/>
                </a:solidFill>
                <a:latin typeface="Arial"/>
                <a:ea typeface="Arial"/>
              </a:rPr>
              <a:t>	</a:t>
            </a:r>
            <a:endParaRPr b="0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  <a:ea typeface="Arial"/>
              </a:rPr>
              <a:t>For obtaining SUGAR (</a:t>
            </a:r>
            <a:r>
              <a:rPr b="0" lang="en-US" sz="2400" spc="-1" strike="noStrike" u="sng">
                <a:solidFill>
                  <a:srgbClr val="000080"/>
                </a:solidFill>
                <a:uFillTx/>
                <a:latin typeface="Arial"/>
                <a:ea typeface="Arial"/>
              </a:rPr>
              <a:t>solute)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  <a:ea typeface="Arial"/>
              </a:rPr>
              <a:t> from sugar wa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2209680" y="2666880"/>
            <a:ext cx="4024440" cy="389736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4">
            <a:hlinkClick r:id="" action="ppaction://hlinkshowjump?jump=nextslide"/>
          </p:cNvPr>
          <p:cNvSpPr/>
          <p:nvPr/>
        </p:nvSpPr>
        <p:spPr>
          <a:xfrm>
            <a:off x="6553080" y="6019920"/>
            <a:ext cx="2362320" cy="457200"/>
          </a:xfrm>
          <a:prstGeom prst="rightArrow">
            <a:avLst>
              <a:gd name="adj1" fmla="val 50000"/>
              <a:gd name="adj2" fmla="val 12917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Simple Distillation:</a:t>
            </a:r>
            <a:r>
              <a:rPr b="1" lang="en-US" sz="27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Used to obtain the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solvent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 from a solution.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imple distillation is usually used only to separate liquids whose boiling points differ greatly.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endParaRPr b="0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For obtaining pure water (</a:t>
            </a:r>
            <a:r>
              <a:rPr b="0" lang="en-US" sz="24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solvent)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 from sea wa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5" descr="simple_distillation2"/>
          <p:cNvPicPr/>
          <p:nvPr/>
        </p:nvPicPr>
        <p:blipFill>
          <a:blip r:embed="rId1"/>
          <a:srcRect l="0" t="0" r="4000" b="2669"/>
          <a:stretch/>
        </p:blipFill>
        <p:spPr>
          <a:xfrm>
            <a:off x="2590920" y="2685960"/>
            <a:ext cx="5486400" cy="417204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6"/>
          <p:cNvSpPr/>
          <p:nvPr/>
        </p:nvSpPr>
        <p:spPr>
          <a:xfrm>
            <a:off x="205200" y="6400800"/>
            <a:ext cx="511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moe.gov.sg/edumall/tl/digital_resources/chemistry8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AutoShape 4">
            <a:hlinkClick r:id="" action="ppaction://hlinkshowjump?jump=nextslide"/>
          </p:cNvPr>
          <p:cNvSpPr/>
          <p:nvPr/>
        </p:nvSpPr>
        <p:spPr>
          <a:xfrm>
            <a:off x="7696080" y="601992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80"/>
                </a:solidFill>
                <a:uFillTx/>
                <a:latin typeface="Arial"/>
                <a:ea typeface="Arial"/>
              </a:rPr>
              <a:t>Fractional Distillation:</a:t>
            </a:r>
            <a:r>
              <a:rPr b="1" lang="en-US" sz="28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  <a:ea typeface="Arial"/>
              </a:rPr>
              <a:t>Used to separate one liquid from a mixture of different liquids using the different boiling points to help.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distillation of a mixture of </a:t>
            </a: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ater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 and ethanol alcohol. Ethanol boils at 78.5 °C while water boils at 100 °C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2"/>
          <a:stretch/>
        </p:blipFill>
        <p:spPr>
          <a:xfrm>
            <a:off x="1752480" y="3025800"/>
            <a:ext cx="5257800" cy="383220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4">
            <a:hlinkClick r:id="" action="ppaction://hlinkshowjump?jump=nextslide"/>
          </p:cNvPr>
          <p:cNvSpPr/>
          <p:nvPr/>
        </p:nvSpPr>
        <p:spPr>
          <a:xfrm>
            <a:off x="7086600" y="6019920"/>
            <a:ext cx="1828800" cy="4572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01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Chromatography: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3100" spc="-1" strike="noStrike">
                <a:solidFill>
                  <a:srgbClr val="008000"/>
                </a:solidFill>
                <a:latin typeface="Arial"/>
                <a:ea typeface="Arial"/>
              </a:rPr>
              <a:t>Used to separate out one color from a mixture of colors</a:t>
            </a:r>
            <a:r>
              <a:rPr b="0" lang="en-US" sz="31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endParaRPr b="0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For separating out the colors in black i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3200400" y="2362320"/>
            <a:ext cx="3962520" cy="386532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5"/>
          <p:cNvSpPr/>
          <p:nvPr/>
        </p:nvSpPr>
        <p:spPr>
          <a:xfrm>
            <a:off x="6095880" y="5105520"/>
            <a:ext cx="12956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lack in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-571680"/>
            <a:ext cx="8458200" cy="114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AD:  Summary of methods used to separate a mixture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762120" y="806400"/>
          <a:ext cx="8381880" cy="544680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t is used f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Filt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Used for separating a </a:t>
                      </a:r>
                      <a:r>
                        <a:rPr b="0" lang="en-US" sz="2000" spc="-1" strike="noStrike" u="sng">
                          <a:solidFill>
                            <a:srgbClr val="008000"/>
                          </a:solidFill>
                          <a:uFillTx/>
                          <a:latin typeface="Arial"/>
                          <a:ea typeface="Arial"/>
                        </a:rPr>
                        <a:t>solid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 from a liqu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Separating SAND from wate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Evapo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Used to obtain the </a:t>
                      </a:r>
                      <a:r>
                        <a:rPr b="0" lang="en-US" sz="2000" spc="-1" strike="noStrike" u="sng">
                          <a:solidFill>
                            <a:srgbClr val="000080"/>
                          </a:solidFill>
                          <a:uFillTx/>
                          <a:latin typeface="Arial"/>
                          <a:ea typeface="Arial"/>
                        </a:rPr>
                        <a:t>solute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from a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For obtaining SALT (</a:t>
                      </a:r>
                      <a:r>
                        <a:rPr b="0" lang="en-US" sz="2000" spc="-1" strike="noStrike" u="sng">
                          <a:solidFill>
                            <a:srgbClr val="000080"/>
                          </a:solidFill>
                          <a:uFillTx/>
                          <a:latin typeface="Arial"/>
                          <a:ea typeface="Arial"/>
                        </a:rPr>
                        <a:t>solute)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from salt 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Simple distil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Used to obtain the </a:t>
                      </a:r>
                      <a:r>
                        <a:rPr b="0" lang="en-US" sz="2000" spc="-1" strike="noStrike" u="sng">
                          <a:solidFill>
                            <a:srgbClr val="008000"/>
                          </a:solidFill>
                          <a:uFillTx/>
                          <a:latin typeface="Arial"/>
                          <a:ea typeface="Arial"/>
                        </a:rPr>
                        <a:t>solvent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 from a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For obtaining pure water (</a:t>
                      </a:r>
                      <a:r>
                        <a:rPr b="0" lang="en-US" sz="2000" spc="-1" strike="noStrike" u="sng">
                          <a:solidFill>
                            <a:srgbClr val="008000"/>
                          </a:solidFill>
                          <a:uFillTx/>
                          <a:latin typeface="Arial"/>
                          <a:ea typeface="Arial"/>
                        </a:rPr>
                        <a:t>solvent)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 from sea 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Fractional distil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Used to separate one liquid from a mixture of different liquids using the different boiling points to hel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Oxygen or nitrogen is obtained from air (a mixture of different gas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Chromatograp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Used to separate out one color from a mixture of col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For separating out the colors in black 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AutoShape 4">
            <a:hlinkClick r:id="" action="ppaction://hlinkshowjump?jump=nextslide"/>
          </p:cNvPr>
          <p:cNvSpPr/>
          <p:nvPr/>
        </p:nvSpPr>
        <p:spPr>
          <a:xfrm>
            <a:off x="5334120" y="632448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91404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xtures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are two or more substances that are not chemically combined and they can be physically separated.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  **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dd this word to your science notebook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25909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Which of the substances below are “mixture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”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and, soil, chicken soup, pizza, chocola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ip cookies,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alt wat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04920" y="49528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ll of the substances are mixtures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01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Activity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eparating  A Salt and Water Mixtur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.  Go to the site below and read about the ways to separate salt from water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2.  Complete the interactive section at the bottom of the page (question 14).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resources.schoolscience.co.uk/ICI/11-14/materials/match3pg1.htm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Brain Storm!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ow would you go about separating a mixture of </a:t>
            </a:r>
            <a:r>
              <a:rPr b="0" i="1" lang="en-US" sz="2900" spc="-1" strike="noStrike">
                <a:solidFill>
                  <a:srgbClr val="000000"/>
                </a:solidFill>
                <a:latin typeface="Arial"/>
              </a:rPr>
              <a:t>salt and sand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ith your group, list the procedure you would follow in your notebook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eck your method by comparing it to the method presented at the website below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www.zephyrus.co.uk/separatingmixtures3.htm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Conclusions: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Copy and answer this question in your science notebook. 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182736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006666"/>
                </a:solidFill>
                <a:uFillTx/>
                <a:latin typeface="Verdana"/>
              </a:rPr>
              <a:t>Complex Mixture Separation: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could you separate a sand, salt, iron filings and marbles mixture? Explain, using pictures or diagrams to help your answ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YOU COMPLETED THE LESSON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lease see Mr. Mihalyov to share what you learned and determine your next step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In a  </a:t>
            </a:r>
            <a:r>
              <a:rPr b="1" lang="en-US" sz="4400" spc="-1" strike="noStrike" u="sng">
                <a:solidFill>
                  <a:srgbClr val="006666"/>
                </a:solidFill>
                <a:uFillTx/>
                <a:latin typeface="Arial"/>
              </a:rPr>
              <a:t>mixture</a:t>
            </a: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 ….</a:t>
            </a:r>
            <a:br>
              <a:rPr sz="44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533520" y="2805120"/>
            <a:ext cx="8305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*Each substance in the mixture keeps its individual properties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85800" y="4343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*The substances can be separated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by physical mean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6666"/>
                </a:solidFill>
                <a:latin typeface="Arial"/>
              </a:rPr>
              <a:t>Think about </a:t>
            </a:r>
            <a:r>
              <a:rPr b="0" i="1" lang="en-US" sz="2800" spc="-1" strike="noStrike" u="sng">
                <a:solidFill>
                  <a:srgbClr val="006666"/>
                </a:solidFill>
                <a:uFillTx/>
                <a:latin typeface="Arial"/>
              </a:rPr>
              <a:t>why</a:t>
            </a:r>
            <a:r>
              <a:rPr b="0" i="1" lang="en-US" sz="2800" spc="-1" strike="noStrike">
                <a:solidFill>
                  <a:srgbClr val="006666"/>
                </a:solidFill>
                <a:latin typeface="Arial"/>
              </a:rPr>
              <a:t> they are mixtures??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S OF MIXTURES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6" descr="conglomeraterockimage"/>
          <p:cNvPicPr/>
          <p:nvPr/>
        </p:nvPicPr>
        <p:blipFill>
          <a:blip r:embed="rId1"/>
          <a:stretch/>
        </p:blipFill>
        <p:spPr>
          <a:xfrm>
            <a:off x="914400" y="2133720"/>
            <a:ext cx="2708280" cy="1646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pepsioneimage"/>
          <p:cNvPicPr/>
          <p:nvPr/>
        </p:nvPicPr>
        <p:blipFill>
          <a:blip r:embed="rId2"/>
          <a:stretch/>
        </p:blipFill>
        <p:spPr>
          <a:xfrm>
            <a:off x="4648320" y="4267080"/>
            <a:ext cx="650880" cy="1235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hamburgerimage"/>
          <p:cNvPicPr/>
          <p:nvPr/>
        </p:nvPicPr>
        <p:blipFill>
          <a:blip r:embed="rId3"/>
          <a:stretch/>
        </p:blipFill>
        <p:spPr>
          <a:xfrm>
            <a:off x="6095880" y="2286000"/>
            <a:ext cx="2194200" cy="1646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991440" y="3886200"/>
            <a:ext cx="2503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RO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ixture o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kinds of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3734280" y="5638680"/>
            <a:ext cx="257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SO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ixture o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ar and wa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5790240" y="4114800"/>
            <a:ext cx="325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SANDWI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ix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bread, meat, toma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AutoShape 4">
            <a:hlinkClick r:id="" action="ppaction://hlinkshowjump?jump=nextslide"/>
          </p:cNvPr>
          <p:cNvSpPr/>
          <p:nvPr/>
        </p:nvSpPr>
        <p:spPr>
          <a:xfrm>
            <a:off x="6477120" y="6019920"/>
            <a:ext cx="2438280" cy="457200"/>
          </a:xfrm>
          <a:prstGeom prst="rightArrow">
            <a:avLst>
              <a:gd name="adj1" fmla="val 50000"/>
              <a:gd name="adj2" fmla="val 1333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12949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Activity 1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90360" y="342756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000000"/>
                </a:solidFill>
                <a:uFillTx/>
                <a:latin typeface="Verdana"/>
              </a:rPr>
              <a:t>Internet Activity: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Mixtures, Substances, Elements, and Compound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oduction to Internet Activi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t’s pretend we have an extremely powerful microscope that can allow us to see the atoms of various thing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following website should allow us to see the differences in elements, compounds, and mixtu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ernet Activi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he link below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n, close the website (x out) and  come back to the PowerPoint when you have finished the activ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Mixtures, Compounds, Elements Websi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There are  2 types of mixtures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2:48:28Z</dcterms:created>
  <dc:creator>ccps</dc:creator>
  <dc:description/>
  <dc:language>en-US</dc:language>
  <cp:lastModifiedBy>ccps</cp:lastModifiedBy>
  <dcterms:modified xsi:type="dcterms:W3CDTF">2009-12-16T20:26:16Z</dcterms:modified>
  <cp:revision>25</cp:revision>
  <dc:subject/>
  <dc:title>Slide 1</dc:title>
</cp:coreProperties>
</file>