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422-AB9A-4B7B-80B9-1EBE1A6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0DB1-3E06-4C3E-8E5B-56D22F80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BCA-F6B5-46CC-BD14-AA09E3A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351-DECC-470F-BC4F-8C501AAC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D97-6B0D-45CA-B735-835494F8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5715-55D0-4162-BD43-AE17E503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693-0A4D-4FC8-A1E7-00947560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951-96DE-4E87-BB66-94F79390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BB0-4084-4D60-8018-A537F16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AD5-7E3C-46EA-BF15-3AA38C9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25F-8B7B-4ADB-A654-284B3931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F85-558C-472D-B6AF-2F2BD633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ADAE-4E26-435E-9418-F7D126891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 Your Answ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34146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2720" y="-3290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Cyb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33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349920"/>
            <a:ext cx="9144000" cy="61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eate a long list of Examples of Chemical Reactions as you go through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orks, rusting, combustion, electrolysis, brushing teeth, leaves changing color on the fall, glow sticks, compost, foods spoiling, digestion, plants grow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y and complete the sentences with blank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chemical reaction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process where one or more substances change to become one or more new sub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Mass, color and boiling point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per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ist and give examples of the 5 signs of a chemical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energy – Exothermic or Endother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 change in o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Gas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olid forms - precipi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Boil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Vinegar added to baking soda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hem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get bubbles of carbon dioxide a new pro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Freezing water i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nge becaus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e still have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Dihydrogen monoxide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Subscripts ar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he lower number in a chemical formula that tell how many atoms are in the molecu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Like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87800"/>
            <a:ext cx="914400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raw and label a methan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Draw and label a carbon dioxide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 Write a chemical equation for making salt. Label the reactants and produ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  +   Cl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Arial"/>
              </a:rPr>
              <a:t>Reactants                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 Coefficient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 numbers in front of formulas that help us balance a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. The Law of Conservation of Mass states that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tter is neither created nor destroyed in chemical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 This means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ctan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the atom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962520" y="380880"/>
            <a:ext cx="942840" cy="990720"/>
            <a:chOff x="3962520" y="380880"/>
            <a:chExt cx="942840" cy="990720"/>
          </a:xfrm>
        </p:grpSpPr>
        <p:grpSp>
          <p:nvGrpSpPr>
            <p:cNvPr id="48" name=""/>
            <p:cNvGrpSpPr/>
            <p:nvPr/>
          </p:nvGrpSpPr>
          <p:grpSpPr>
            <a:xfrm>
              <a:off x="4000320" y="431640"/>
              <a:ext cx="812160" cy="888120"/>
              <a:chOff x="4000320" y="431640"/>
              <a:chExt cx="812160" cy="888120"/>
            </a:xfrm>
          </p:grpSpPr>
          <p:sp>
            <p:nvSpPr>
              <p:cNvPr id="49" name=""/>
              <p:cNvSpPr/>
              <p:nvPr/>
            </p:nvSpPr>
            <p:spPr>
              <a:xfrm>
                <a:off x="4203360" y="653760"/>
                <a:ext cx="365400" cy="399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7080" y="105372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81320" y="43164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000320" y="9201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69120" y="653760"/>
                <a:ext cx="243360" cy="26604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213080" y="6858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08280" y="6094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38480" y="3808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62520" y="8632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94160" y="10033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419720" y="1905120"/>
            <a:ext cx="993600" cy="419040"/>
            <a:chOff x="4419720" y="1905120"/>
            <a:chExt cx="993600" cy="419040"/>
          </a:xfrm>
        </p:grpSpPr>
        <p:sp>
          <p:nvSpPr>
            <p:cNvPr id="60" name=""/>
            <p:cNvSpPr/>
            <p:nvPr/>
          </p:nvSpPr>
          <p:spPr>
            <a:xfrm>
              <a:off x="4711680" y="1924200"/>
              <a:ext cx="365400" cy="39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79960" y="1955880"/>
              <a:ext cx="24300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70480" y="1955880"/>
              <a:ext cx="244440" cy="266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1400" y="1955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19177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16600" y="190512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828800" y="3124080"/>
            <a:ext cx="762120" cy="152640"/>
          </a:xfrm>
          <a:prstGeom prst="rightArrow">
            <a:avLst>
              <a:gd name="adj1" fmla="val 50000"/>
              <a:gd name="adj2" fmla="val 12482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56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We can never change the subscript number to balance a reaction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t would change the type of molecule 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toxic carbon monoxide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is water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 is Hydrogen pe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Chemical reactions like people dancing becaus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ople can change partners during a dance. In a chemical reaction atoms come apart and recombine to make new molec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 In ex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ts the re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 In endothermic reaction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bsorb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Pause so that you can record the chemical equation for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C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+   6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    +    Light Energy               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+    6O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6 carbon dioxide molecules and 6 water molecules in the presence of sunlight in green plants will yield or make one sugar molecule and 6 oxygen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2670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86200" y="5457960"/>
            <a:ext cx="11606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5012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the 5 factors that affect the speed of a chemical reaction and give an example for 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n Inhibitors to slow a reaction dow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paint that slows the rusting of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heating the glow stick to make it brigh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ncentration of Reac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uch as using a whole box of baking soda and a big bottle of vinegar to make a huge pile of carbon dioxide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Use a Catalyst to speed a reaction up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salt and water caused the rust to happen fast in a hand warm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nge the Surface Are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ke when we tore aluminum foil into small pieces to expose more atoms to the other react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so we used iron powder instead of a solid piece of iron to make the rust reaction go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20:36:58Z</dcterms:created>
  <dc:creator>CCPS</dc:creator>
  <dc:description/>
  <dc:language>en-US</dc:language>
  <cp:lastModifiedBy>CCPS</cp:lastModifiedBy>
  <dcterms:modified xsi:type="dcterms:W3CDTF">2010-02-03T20:12:10Z</dcterms:modified>
  <cp:revision>5</cp:revision>
  <dc:subject/>
  <dc:title>CyberEd</dc:title>
</cp:coreProperties>
</file>