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473-163D-4424-8300-E895E7FE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614-B2C0-48AE-A40A-76D9CBE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C58-21BE-47C5-BC8B-EC8A854C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D24-4398-4512-A063-F3C7A2B6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052-E930-4581-867B-1B9202E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D90-542B-46A3-9AFE-7BF60DBC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BD5-DD6F-4B59-A289-53C42CC5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DB0-42AD-4740-ABCC-50253C7F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53D-640A-4494-A35D-7FB9113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6E3-8A0F-46AD-98A1-B1E299E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181-15B3-430A-9F6D-61B559C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373-6D21-499E-A2BD-FCEE468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488F-E2A3-44E7-81B8-27E806B31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414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2720" y="-3290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y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3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49920"/>
            <a:ext cx="9144000" cy="61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eate a long list of Examples of Chemical Reactions as you go through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, rusting, combustion, electrolysis, brushing teeth, leaves changing color on the fall, glow sticks, compost, foods spoiling, digestion, plants grow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and complete the sentences with blan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chemical reaction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process where one or more substances change to become one or more new sub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ss, color and boiling point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ist and give examples of the 5 signs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energy – Exothermic or Endother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s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olid forms - 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Boil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Vinegar added to baking soda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get bubbles of carbon dioxide a new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Freez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still have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Dihydrogen monoxid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Subscript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lower number in a chemical formula that tell how many atoms are in the molec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ike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87800"/>
            <a:ext cx="91440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raw and label a methan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Draw and label a carbon dioxid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Write a chemical equation for making salt. Label the reactants and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  +   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Reactants             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Coefficient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 numbers in front of formulas that help us balance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The Law of Conservation of Mass states tha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ter is neither created nor destroyed in chemical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This means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an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380880"/>
            <a:ext cx="942840" cy="990720"/>
            <a:chOff x="3962520" y="380880"/>
            <a:chExt cx="942840" cy="990720"/>
          </a:xfrm>
        </p:grpSpPr>
        <p:grpSp>
          <p:nvGrpSpPr>
            <p:cNvPr id="48" name=""/>
            <p:cNvGrpSpPr/>
            <p:nvPr/>
          </p:nvGrpSpPr>
          <p:grpSpPr>
            <a:xfrm>
              <a:off x="4000320" y="431640"/>
              <a:ext cx="812160" cy="888120"/>
              <a:chOff x="4000320" y="431640"/>
              <a:chExt cx="812160" cy="888120"/>
            </a:xfrm>
          </p:grpSpPr>
          <p:sp>
            <p:nvSpPr>
              <p:cNvPr id="49" name=""/>
              <p:cNvSpPr/>
              <p:nvPr/>
            </p:nvSpPr>
            <p:spPr>
              <a:xfrm>
                <a:off x="4203360" y="653760"/>
                <a:ext cx="365400" cy="39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7080" y="105372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81320" y="43164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00320" y="9201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9120" y="6537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213080" y="6858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8280" y="6094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380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8632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94160" y="10033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19720" y="1905120"/>
            <a:ext cx="993600" cy="419040"/>
            <a:chOff x="4419720" y="1905120"/>
            <a:chExt cx="993600" cy="419040"/>
          </a:xfrm>
        </p:grpSpPr>
        <p:sp>
          <p:nvSpPr>
            <p:cNvPr id="60" name=""/>
            <p:cNvSpPr/>
            <p:nvPr/>
          </p:nvSpPr>
          <p:spPr>
            <a:xfrm>
              <a:off x="4711680" y="1924200"/>
              <a:ext cx="365400" cy="39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79960" y="1955880"/>
              <a:ext cx="24300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0480" y="1955880"/>
              <a:ext cx="24444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1400" y="1955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91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6600" y="19051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31240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We can never change the subscript number to balance a reaction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 would change the type of molecule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toxic carbon monoxide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water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Hydrogen pe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Chemical reactions like people dancing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ople can change partners during a dance. In a chemical reaction atoms come apart and recombine to make new molec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 In ex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ts the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In end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sor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Pause so that you can record the chemical equation for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+   6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   +    Light Energy               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+    6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6 carbon dioxide molecules and 6 water molecules in the presence of sunlight in green plants will yield or make one sugar molecule and 6 oxygen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2670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5457960"/>
            <a:ext cx="1160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012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the 5 factors that affect the speed of a chemical reaction and give an example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n Inhibitors to slow a reaction dow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paint that slows the rusting of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heating the glow stick to make it br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centration of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using a whole box of baking soda and a big bottle of vinegar to make a huge pile of carbon dioxide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 Catalyst to speed a reaction u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salt and water caused the rust to happen fast in a hand warm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he Surface 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when we tore aluminum foil into small pieces to expose more atoms to the other react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so we used iron powder instead of a solid piece of iron to make the rust reaction go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36:58Z</dcterms:created>
  <dc:creator>CCPS</dc:creator>
  <dc:description/>
  <dc:language>en-US</dc:language>
  <cp:lastModifiedBy>CCPS</cp:lastModifiedBy>
  <dcterms:modified xsi:type="dcterms:W3CDTF">2010-02-03T20:12:10Z</dcterms:modified>
  <cp:revision>5</cp:revision>
  <dc:subject/>
  <dc:title>CyberEd</dc:title>
</cp:coreProperties>
</file>