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409E-F0FB-485B-BA63-CA5CE9D4A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D134-77A0-4654-AA51-376C2EB4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2869-40E8-4D00-AD4E-877D23BC2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0946-7667-4BF1-92CD-1EA26355E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75E9-AF25-42A8-A538-65CD90CA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63E0-82AB-444D-B1BA-0F6CD620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22B6-D8E0-45F3-B6AA-F3CADF4C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2A25-926E-4775-9426-56C0119A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A9DE-6F9C-476C-A4AB-B27E9A6E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58E6-00E4-456F-8AB3-0F782D18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15CA-8F10-4EE0-84E2-55274C9E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ABBA-A29B-4864-ABB8-F38C20E3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6BEA-4859-4758-8B17-6015F328F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Your Answ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14600" y="3505320"/>
            <a:ext cx="341460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2720" y="-32904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Cyb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633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349920"/>
            <a:ext cx="9144000" cy="61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Create a long list of Examples of Chemical Reactions as you go through 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works, rusting, combustion, electrolysis, brushing teeth, leaves changing color on the fall, glow sticks, compost, foods spoiling, digestion, plants grow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y and complete the sentences with blank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chemical reaction is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 process where one or more substances change to become one or more new sub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Mass, color and boiling point ar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hysi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pert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List and give examples of the 5 signs of a chemical re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 change in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 change in energy – Exothermic or Endother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 change in o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Gas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olid forms - precipi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Boiling water is a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hysi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Vinegar added to baking soda is a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hemi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ange becaus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we get bubbles of carbon dioxide a new produ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Freezing water is a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hysi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ange becaus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we still have wa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Dihydrogen monoxide is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wa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Subscripts ar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the lower number in a chemical formula that tell how many atoms are in the molecu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Like 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87800"/>
            <a:ext cx="9144000" cy="56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 Draw and label a methane molecu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 Draw and label a carbon dioxide molecu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. Write a chemical equation for making salt. Label the reactants and produ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Na  +   Cl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N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</a:rPr>
              <a:t>      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Arial"/>
              </a:rPr>
              <a:t>Reactants                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. Coefficients ar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arge numbers in front of formulas that help us balance an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. The Law of Conservation of Mass states that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atter is neither created nor destroyed in chemical re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. This means the atom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actant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the atom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962520" y="380880"/>
            <a:ext cx="942840" cy="990720"/>
            <a:chOff x="3962520" y="380880"/>
            <a:chExt cx="942840" cy="990720"/>
          </a:xfrm>
        </p:grpSpPr>
        <p:grpSp>
          <p:nvGrpSpPr>
            <p:cNvPr id="48" name=""/>
            <p:cNvGrpSpPr/>
            <p:nvPr/>
          </p:nvGrpSpPr>
          <p:grpSpPr>
            <a:xfrm>
              <a:off x="4000320" y="431640"/>
              <a:ext cx="812160" cy="888120"/>
              <a:chOff x="4000320" y="431640"/>
              <a:chExt cx="812160" cy="888120"/>
            </a:xfrm>
          </p:grpSpPr>
          <p:sp>
            <p:nvSpPr>
              <p:cNvPr id="49" name=""/>
              <p:cNvSpPr/>
              <p:nvPr/>
            </p:nvSpPr>
            <p:spPr>
              <a:xfrm>
                <a:off x="4203360" y="653760"/>
                <a:ext cx="365400" cy="399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447080" y="1053720"/>
                <a:ext cx="243360" cy="2660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081320" y="431640"/>
                <a:ext cx="243360" cy="2660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000320" y="920160"/>
                <a:ext cx="243360" cy="2660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569120" y="653760"/>
                <a:ext cx="243360" cy="2660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4213080" y="68580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08280" y="60948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038480" y="38088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962520" y="86328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394160" y="10033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4419720" y="1905120"/>
            <a:ext cx="993600" cy="419040"/>
            <a:chOff x="4419720" y="1905120"/>
            <a:chExt cx="993600" cy="419040"/>
          </a:xfrm>
        </p:grpSpPr>
        <p:sp>
          <p:nvSpPr>
            <p:cNvPr id="60" name=""/>
            <p:cNvSpPr/>
            <p:nvPr/>
          </p:nvSpPr>
          <p:spPr>
            <a:xfrm>
              <a:off x="4711680" y="1924200"/>
              <a:ext cx="365400" cy="39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79960" y="1955880"/>
              <a:ext cx="243000" cy="2667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70480" y="1955880"/>
              <a:ext cx="244440" cy="2667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21400" y="195588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19720" y="19177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16600" y="19051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828800" y="3124080"/>
            <a:ext cx="762120" cy="152640"/>
          </a:xfrm>
          <a:prstGeom prst="rightArrow">
            <a:avLst>
              <a:gd name="adj1" fmla="val 50000"/>
              <a:gd name="adj2" fmla="val 12482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56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. We can never change the subscript number to balance a reaction becaus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It would change the type of molecule for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is toxic carbon monoxide and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2 is carbon di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is water and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2 is Hydrogen per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. Chemical reactions like people dancing becaus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People can change partners during a dance. In a chemical reaction atoms come apart and recombine to make new molec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.  In exothermic reaction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he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its the re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.  In endothermic reaction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he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bsorb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. Pause so that you can record the chemical equation for </a:t>
            </a:r>
            <a:r>
              <a:rPr b="1" i="1" lang="en-US" sz="1800" spc="-1" strike="noStrike">
                <a:solidFill>
                  <a:srgbClr val="33cc33"/>
                </a:solidFill>
                <a:latin typeface="Arial"/>
              </a:rPr>
              <a:t>photosynthes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CO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+   6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    +    Light Energy               C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+    6O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cc33"/>
                </a:solidFill>
                <a:latin typeface="Arial"/>
              </a:rPr>
              <a:t>6 carbon dioxide molecules and 6 water molecules in the presence of sunlight in green plants will yield or make one sugar molecule and 6 oxygen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426708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886200" y="5457960"/>
            <a:ext cx="116064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50120"/>
            <a:ext cx="91440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st the 5 factors that affect the speed of a chemical reaction and give an example for e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Use an Inhibitors to slow a reaction dow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uch as paint that slows the rusting of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hange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uch as heating the glow stick to make it brigh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oncentration of Reac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uch as using a whole box of baking soda and a big bottle of vinegar to make a huge pile of carbon dioxide bub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Use a Catalyst to speed a reaction up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like salt and water caused the rust to happen fast in a hand warmer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hange the Surface Are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like when we tore aluminum foil into small pieces to expose more atoms to the other reacta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also we used iron powder instead of a solid piece of iron to make the rust reaction go f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20:36:58Z</dcterms:created>
  <dc:creator>CCPS</dc:creator>
  <dc:description/>
  <dc:language>en-US</dc:language>
  <cp:lastModifiedBy>CCPS</cp:lastModifiedBy>
  <dcterms:modified xsi:type="dcterms:W3CDTF">2010-02-03T20:12:10Z</dcterms:modified>
  <cp:revision>5</cp:revision>
  <dc:subject/>
  <dc:title>CyberEd</dc:title>
</cp:coreProperties>
</file>