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9C8C-98AE-4FEC-B922-2E0F85812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3BBB-E93A-42C4-BAA5-9E805EFFE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5F0A-D22A-482E-9CBF-5A8DF7308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9E97-FBBB-456D-9C43-D2BFD1EAE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8B69-1939-4A00-A03E-471F3179C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1143-6713-41CB-82E5-6279C493D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D2BE-F54C-46B0-84BF-608801729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07D0-24F9-46D7-9132-428F7E93F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89D6-0A42-4EAF-9271-9D764F659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B3E6-4B88-4F26-BFD4-9B2CB6436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664B-3856-487C-B82E-8866125E8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FD31-F110-494B-ACC8-21F4F8770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EBB06-C2BF-4207-9D90-7CC515708B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hemistry.org/portal/a/c/s/1/feature_ent.html?id=c373e9fee203bf568f6a17245d830100" TargetMode="External"/><Relationship Id="rId2" Type="http://schemas.openxmlformats.org/officeDocument/2006/relationships/hyperlink" Target="http://science.howstuffworks.com/hot-air-balloon.htm" TargetMode="External"/><Relationship Id="rId3" Type="http://schemas.openxmlformats.org/officeDocument/2006/relationships/hyperlink" Target="http://www.chemistry.org/portal/a/c/s/1/feature_ent.html?id=c373e9fee203bf568f6a17245d830100" TargetMode="External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en.wikipedia.org/wiki/Liquid_oxygen" TargetMode="External"/><Relationship Id="rId2" Type="http://schemas.openxmlformats.org/officeDocument/2006/relationships/hyperlink" Target="http://scifun.chem.wisc.edu/chemweek/Airgases/airgases.html" TargetMode="External"/><Relationship Id="rId3" Type="http://schemas.openxmlformats.org/officeDocument/2006/relationships/hyperlink" Target="http://www.pa.msu.edu/sciencet/ask_st/051293.html" TargetMode="External"/><Relationship Id="rId4" Type="http://schemas.openxmlformats.org/officeDocument/2006/relationships/hyperlink" Target="http://www.naspensacola.navy.mil/logistics/loxlin.html" TargetMode="External"/><Relationship Id="rId5" Type="http://schemas.openxmlformats.org/officeDocument/2006/relationships/hyperlink" Target="http://wwwsafety.deas.harvard.edu/services/nitrogen.html" TargetMode="External"/><Relationship Id="rId6" Type="http://schemas.openxmlformats.org/officeDocument/2006/relationships/hyperlink" Target="http://wwwsafety.deas.harvard.edu/services/oxygen.html" TargetMode="External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jollytime.com/kids_corner/science1.asp" TargetMode="External"/><Relationship Id="rId2" Type="http://schemas.openxmlformats.org/officeDocument/2006/relationships/hyperlink" Target="http://www.factmonster.com/index.html" TargetMode="External"/><Relationship Id="rId3" Type="http://schemas.openxmlformats.org/officeDocument/2006/relationships/hyperlink" Target="http://www.factmonster.com/spot/popcorn1.html" TargetMode="External"/><Relationship Id="rId4" Type="http://schemas.openxmlformats.org/officeDocument/2006/relationships/hyperlink" Target="http://amos.indiana.edu/library/scripts/popcorn.html" TargetMode="External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howstuffworks.com/" TargetMode="Externa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howstuffworks.com/" TargetMode="Externa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electronics.howstuffworks.com/cell-phone-radiation1.htm" TargetMode="External"/><Relationship Id="rId2" Type="http://schemas.openxmlformats.org/officeDocument/2006/relationships/hyperlink" Target="http://www.answers.com/topic/radiation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howstuffworks.com/" TargetMode="External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answers.com/topic/visiblelight" TargetMode="External"/><Relationship Id="rId2" Type="http://schemas.openxmlformats.org/officeDocument/2006/relationships/hyperlink" Target="http://www.answers.com/topic/visiblelight" TargetMode="External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electronics.howstuffworks.com/remote-control4.htm" TargetMode="External"/><Relationship Id="rId2" Type="http://schemas.openxmlformats.org/officeDocument/2006/relationships/hyperlink" Target="http://www.wisegeek.com/how-do-remote-controls-work.htm" TargetMode="External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Radar" TargetMode="External"/><Relationship Id="rId2" Type="http://schemas.openxmlformats.org/officeDocument/2006/relationships/hyperlink" Target="http://science.howstuffworks.com/radar.htm" TargetMode="External"/><Relationship Id="rId3" Type="http://schemas.openxmlformats.org/officeDocument/2006/relationships/hyperlink" Target="http://earth.rice.edu/mtpe/geo/geosphere/topics/remotesensing/25_radar.html" TargetMode="External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howstuffworks.com/" TargetMode="External"/><Relationship Id="rId2" Type="http://schemas.openxmlformats.org/officeDocument/2006/relationships/hyperlink" Target="http://en.wikipedia.org/wiki/X-ray" TargetMode="External"/><Relationship Id="rId3" Type="http://schemas.openxmlformats.org/officeDocument/2006/relationships/hyperlink" Target="http://en.wikipedia.org/wiki/X-ray" TargetMode="External"/><Relationship Id="rId4" Type="http://schemas.openxmlformats.org/officeDocument/2006/relationships/hyperlink" Target="http://inventors.about.com/library/inventors/blxray.htm" TargetMode="External"/><Relationship Id="rId5" Type="http://schemas.openxmlformats.org/officeDocument/2006/relationships/hyperlink" Target="http://www.answers.com/topic/x-ray-machine-2" TargetMode="External"/><Relationship Id="rId6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mrfizzix.com/basketball/" TargetMode="External"/><Relationship Id="rId2" Type="http://schemas.openxmlformats.org/officeDocument/2006/relationships/hyperlink" Target="http://www.worsleyschool.net/science/files/physicsof/basketball.html" TargetMode="External"/><Relationship Id="rId3" Type="http://schemas.openxmlformats.org/officeDocument/2006/relationships/hyperlink" Target="http://www.hesston.edu/ACADEMIC/FACULTY/NELSONK/PhysicsResearch/Basketball/Paperpg.htm" TargetMode="External"/><Relationship Id="rId4" Type="http://schemas.openxmlformats.org/officeDocument/2006/relationships/hyperlink" Target="http://www.howstuffworks.com/" TargetMode="External"/><Relationship Id="rId5" Type="http://schemas.openxmlformats.org/officeDocument/2006/relationships/hyperlink" Target="http://home.nc.rr.com/enloephysics/sports.htm" TargetMode="External"/><Relationship Id="rId6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geocities.com/bright_effect/physics.html" TargetMode="External"/><Relationship Id="rId2" Type="http://schemas.openxmlformats.org/officeDocument/2006/relationships/hyperlink" Target="http://www.howstuffworks.com/" TargetMode="External"/><Relationship Id="rId3" Type="http://schemas.openxmlformats.org/officeDocument/2006/relationships/hyperlink" Target="http://nhs.needham.k12.ma.us/cur/mphy/np/gym.html" TargetMode="External"/><Relationship Id="rId4" Type="http://schemas.openxmlformats.org/officeDocument/2006/relationships/hyperlink" Target="http://www.k12.nf.ca/gc/Science/Physics3204/Projects2003/SlotC/ProjectC7/mainpage.htm" TargetMode="External"/><Relationship Id="rId5" Type="http://schemas.openxmlformats.org/officeDocument/2006/relationships/hyperlink" Target="http://home.nc.rr.com/enloephysics/sports.htm" TargetMode="External"/><Relationship Id="rId6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home.nc.rr.com/enloephysics/sports.htm" TargetMode="External"/><Relationship Id="rId2" Type="http://schemas.openxmlformats.org/officeDocument/2006/relationships/hyperlink" Target="http://www.bsharp.org/physics/stuff/skater.html" TargetMode="External"/><Relationship Id="rId3" Type="http://schemas.openxmlformats.org/officeDocument/2006/relationships/hyperlink" Target="http://www.howstufworks.com/" TargetMode="External"/><Relationship Id="rId4" Type="http://schemas.openxmlformats.org/officeDocument/2006/relationships/hyperlink" Target="http://madsci.org/posts/archives/feb98/887635696.Ph.r.html" TargetMode="External"/><Relationship Id="rId5" Type="http://schemas.openxmlformats.org/officeDocument/2006/relationships/hyperlink" Target="http://madsci.org/posts/archives/feb98/887635696.Ph.r.html" TargetMode="External"/><Relationship Id="rId6" Type="http://schemas.openxmlformats.org/officeDocument/2006/relationships/image" Target="../media/image1.gif"/><Relationship Id="rId7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howstuffworks.com/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howstuffworks.com/therm1.htm" TargetMode="External"/><Relationship Id="rId2" Type="http://schemas.openxmlformats.org/officeDocument/2006/relationships/hyperlink" Target="http://www.answers.com/topic/dry-bulb-temperature" TargetMode="External"/><Relationship Id="rId3" Type="http://schemas.openxmlformats.org/officeDocument/2006/relationships/hyperlink" Target="http://www.newton.dep.anl.gov/askasci/chem99/chem99323.htm" TargetMode="External"/><Relationship Id="rId4" Type="http://schemas.openxmlformats.org/officeDocument/2006/relationships/hyperlink" Target="http://www.windows.ucar.edu/earth/Atmosphere/temperature/thermometer.html" TargetMode="External"/><Relationship Id="rId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science.howstuffworks.com/black-light.htm" TargetMode="External"/><Relationship Id="rId2" Type="http://schemas.openxmlformats.org/officeDocument/2006/relationships/hyperlink" Target="http://en.wikipedia.org/wiki/Black_light" TargetMode="External"/><Relationship Id="rId3" Type="http://schemas.openxmlformats.org/officeDocument/2006/relationships/hyperlink" Target="http://science.howstuffworks.com/black-light2.htm" TargetMode="External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howstuffworks.com/question264.htm" TargetMode="External"/><Relationship Id="rId2" Type="http://schemas.openxmlformats.org/officeDocument/2006/relationships/hyperlink" Target="http://en.wikipedia.org/wiki/Dry_ice" TargetMode="External"/><Relationship Id="rId3" Type="http://schemas.openxmlformats.org/officeDocument/2006/relationships/hyperlink" Target="http://www.occc.com/abc/dry-ice.htm" TargetMode="External"/><Relationship Id="rId4" Type="http://schemas.openxmlformats.org/officeDocument/2006/relationships/hyperlink" Target="http://tlc.ousd.k12.ca.us/~acody/Dry_Ice.html" TargetMode="External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en.wikipedia.org/wiki/Amorphous" TargetMode="External"/><Relationship Id="rId2" Type="http://schemas.openxmlformats.org/officeDocument/2006/relationships/hyperlink" Target="http://www.utmem.edu/physpharm/.003a.htm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howstuffworks.com/" TargetMode="Externa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howstuffworks.com/hydraulic.htm" TargetMode="External"/><Relationship Id="rId2" Type="http://schemas.openxmlformats.org/officeDocument/2006/relationships/hyperlink" Target="http://www.howstuffworks.com/hydraulic.htm" TargetMode="External"/><Relationship Id="rId3" Type="http://schemas.openxmlformats.org/officeDocument/2006/relationships/hyperlink" Target="http://home.wxs.nl/~brink494/frm_e.htm" TargetMode="External"/><Relationship Id="rId4" Type="http://schemas.openxmlformats.org/officeDocument/2006/relationships/hyperlink" Target="http://www.nextenergy.org/industryservices/Hybrid__Hydraulics.asp" TargetMode="External"/><Relationship Id="rId5" Type="http://schemas.openxmlformats.org/officeDocument/2006/relationships/hyperlink" Target="http://auto.howstuffworks.com/question294.htm" TargetMode="External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howstuffworks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t Air Ballo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causes hot air balloons to ri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the parts of a hot air ballo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you move the balloon horizontall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you launch and land a hot air ballo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hot air balloons have to do with states of matt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chemistry.org/portal/a/c/s/1/feature_ent.html?id=c373e9fee203bf568f6a17245d830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science.howstuffworks.com/hot-air-balloon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chemistry.org/portal/a/c/s/1/feature_ent.html?id=c373e9fee203bf568f6a17245d830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3520" y="304920"/>
            <a:ext cx="609480" cy="609480"/>
          </a:xfrm>
          <a:custGeom>
            <a:avLst/>
            <a:gdLst>
              <a:gd name="textAreaLeft" fmla="*/ 152280 w 609480"/>
              <a:gd name="textAreaRight" fmla="*/ 457200 w 60948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quid Nitrogen or Oxy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liquid nitrogen (or oxygen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is it ma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its u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its proper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en.wikipedia.org/wiki/Liquid_oxy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scifun.chem.wisc.edu/chemweek/Airgases/airgases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pa.msu.edu/sciencet/ask_st/051293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naspensacola.navy.mil/logistics/loxlin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safety.deas.harvard.edu/services/nitrogen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wwwsafety.deas.harvard.edu/services/oxygen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304920"/>
            <a:ext cx="609480" cy="609480"/>
          </a:xfrm>
          <a:custGeom>
            <a:avLst/>
            <a:gdLst>
              <a:gd name="textAreaLeft" fmla="*/ 152280 w 609480"/>
              <a:gd name="textAreaRight" fmla="*/ 457200 w 60948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pcor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in the popcorn kerne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the parts of a popcorn kerne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causes a popcorn kernel to po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would cause popcorn kernels not to po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es popcorn have to do with chemist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jollytime.com/kids_corner/science1.a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factmonster.com/index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factmonster.com/spot/popcorn1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amos.indiana.edu/library/scripts/popcorn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33520" y="304920"/>
            <a:ext cx="609480" cy="609480"/>
          </a:xfrm>
          <a:custGeom>
            <a:avLst/>
            <a:gdLst>
              <a:gd name="textAreaLeft" fmla="*/ 152280 w 609480"/>
              <a:gd name="textAreaRight" fmla="*/ 457200 w 60948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reworks…What causes the colors and how do they wor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fireworks made o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parts of firework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causes fireworks to explod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causes the different colors of firework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howstuffworks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airbags wor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airbags made o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airbags wor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howstuffworks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ndwarm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the components of a handwarm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 we have to break it or squeeze it to “activate” 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type of reaction is happening ( in terms of heat) and what is “releasing the heat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http://antoine.frostburg.edu/chem/senese/101/consumer/faq/how-do-handwarmers-work.s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Batteries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ound inside a batt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reaction is occurr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difference between a “dead battery” and a “charged battery”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Hindenber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was the “Hindenberg”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“chemical theory” behind the disast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could have prevented such a disaster from happening?  (Lesson learned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properties enabled such a disaster to occu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rrosion of the Statue of Liber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appening to the Statue of Libert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is the destruction of Statue of Liberty happening? (Explain in terms of p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changes could be made to help prevent the destruc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reaction is occur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diation from Cell Ph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is cell phone radiation caus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health risks of cell phone radiation?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can you do about cell phone radiatio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electronics.howstuffworks.com/cell-phone-radiation1.h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nswers.com/topic/rad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rmost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es a thermostat wor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par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es a thermostat have to do with chemist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howstuffworks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sms and Visible Lig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answers.com/topic/visiblel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nswers.com/topic/visiblel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frared Light and Remote Contro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infrared remote controls wor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parts of an infrared remo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electronics.howstuffworks.com/remote-control4.h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wisegeek.com/how-do-remote-controls-work.h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d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“radar”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es radar wor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is radar us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type of waves are “radar waves”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en.wikipedia.org/wiki/Rad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science.howstuffworks.com/radar.h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earth.rice.edu/mtpe/geo/geosphere/topics/remotesensing/25_radar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ers and Laser Poin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es a laser pointer wor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“waves” are associated with las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parts of a laser point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other uses of las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en.wikipedia.org/wiki/Laser_poi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www.madehow.com/Volume-7/Laser-Pointer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science.howstuffworks.com/laser8.h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es MRI stand fo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how an MRI test is do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MRI machine work …include the job of the electromagne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s and disadvantages of MRI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ram of the MRI machine and its p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howstuffworks.com/mri.ht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ww.phschool.com (Electricity and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gnetism Book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mritutor.org/mritutor/WhatisMR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neurocog.psy.tufts.edu/images/magnetic_resonance_imaging.htm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-Ray Mach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an x-ra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x-ray machines wor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x-rays bad for you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x-ray machines in airports wor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some other uses of x-ray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howstuffworks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en.wikipedia.org/wiki/X-r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en.wikipedia.org/wiki/X-r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inventors.about.com/library/inventors/blxray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answers.com/topic/x-ray-machine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hysics Behind Basketb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es basketball illustrate Newton’s law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relationship of basketball to the following motion “concep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loci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i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tential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inetic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mrfizzix.com/basketball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worsleyschool.net/science/files/physicsof/basketbal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hesston.edu/ACADEMIC/FACULTY/NELSONK/PhysicsResearch/Basketball/Paperpg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howstuffworks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home.nc.rr.com/enloephysics/sports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hysics Behind Gymnas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the relationship of gymnastics to the following motion “concepts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inetic ene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ene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i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l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ton’s Laws of Mo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geocities.com/bright_effect/physics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howstuffworks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nhs.needham.k12.ma.us/cur/mphy/np/gym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k12.nf.ca/gc/Science/Physics3204/Projects2003/SlotC/ProjectC7/mainpage.ht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home.nc.rr.com/enloephysics/sports.ht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Physics Behind Figure Ska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the relationship of figure skating to the following motion “concepts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inetic ene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ene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i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l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ton’s Laws of Mo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home.nc.rr.com/enloephysics/sports.ht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bsharp.org/physics/stuff/skater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howstufworks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madsci.org/posts/archives/feb98/887635696.Ph.r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madsci.org/posts/archives/feb98/887635696.Ph.r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6"/>
          <a:stretch/>
        </p:blipFill>
        <p:spPr>
          <a:xfrm>
            <a:off x="6705720" y="259092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crowa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kind of waves are “microwaves”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are microwaves us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o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the parts of a microwave ov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rad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health risk of microwav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howstuffworks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en.wikipedia.org/wiki/Microw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lb Thermome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the parts of the bulb thermomet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what makes the liquid in the thermometer rise when it is hot outsid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does this relate to states of matt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what makes the liquid in the thermometer fall when it is cold outsi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does this relate to states of matt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howstuffworks.com/therm1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nswers.com/topic/dry-bulb-tempera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newton.dep.anl.gov/askasci/chem99/chem99323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windows.ucar.edu/earth/Atmosphere/temperature/thermometer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ack Li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a black ligh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black lights wor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uses for black ligh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science.howstuffworks.com/black-light.h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en.wikipedia.org/wiki/Black_l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science.howstuffworks.com/black-light2.h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gLev Tra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maglev transport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maglev trains wor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advantages and disadvantages of maglev trai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en.wikipedia.org/wiki/Maglev_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www.howstuffworks.com/maglev-train.h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p-up Turkey Thermome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parts of the pop-up turkey thermomet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e what makes it “pop up” when the turkey is done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is relate to states of matt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can you reuse “pop up” thermometer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is relate to states of matt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0"/>
            <a:ext cx="609480" cy="609480"/>
          </a:xfrm>
          <a:custGeom>
            <a:avLst/>
            <a:gdLst>
              <a:gd name="textAreaLeft" fmla="*/ 152280 w 609480"/>
              <a:gd name="textAreaRight" fmla="*/ 457200 w 60948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y 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dry ic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is dry ice mad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is dry ice us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dry ice relate to states of matt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howstuffworks.com/question264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en.wikipedia.org/wiki/Dry_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occc.com/abc/dry-ice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tlc.ousd.k12.ca.us/~acody/Dry_Ice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304920"/>
            <a:ext cx="609480" cy="609480"/>
          </a:xfrm>
          <a:custGeom>
            <a:avLst/>
            <a:gdLst>
              <a:gd name="textAreaLeft" fmla="*/ 152280 w 609480"/>
              <a:gd name="textAreaRight" fmla="*/ 457200 w 60948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orphous Solids ( butter, plastic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examples of amorphous solid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are the properties of an amorphous sol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amorphous solids have to do with states of matter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some applications for amorphous solid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en.wikipedia.org/wiki/Amorpho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utmem.edu/physpharm/.003a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is glass mad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kind of substance is gla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is glass mad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are we able to “mold” it into all sorts of shap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howstuffworks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draul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es a hydraulic system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are hydraulics us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hydraulics have to do with chemist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howstuffworks.com/hydraulic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home.wxs.nl/~brink494/frm_e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nextenergy.org/industryservices/Hybrid__Hydraulics.a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auto.howstuffworks.com/question294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3520" y="304920"/>
            <a:ext cx="609480" cy="609480"/>
          </a:xfrm>
          <a:custGeom>
            <a:avLst/>
            <a:gdLst>
              <a:gd name="textAreaLeft" fmla="*/ 152280 w 609480"/>
              <a:gd name="textAreaRight" fmla="*/ 457200 w 60948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sma TV’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plasma tv’s wor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parts of a plasma tv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are they thought not to last as long as other TVS (non-plasma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howstuffworks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31T00:53:09Z</dcterms:created>
  <dc:creator>ccps</dc:creator>
  <dc:description/>
  <dc:language>en-US</dc:language>
  <cp:lastModifiedBy>ccps</cp:lastModifiedBy>
  <dcterms:modified xsi:type="dcterms:W3CDTF">2007-05-11T19:42:39Z</dcterms:modified>
  <cp:revision>13</cp:revision>
  <dc:subject/>
  <dc:title>Hot Air Balloons</dc:title>
</cp:coreProperties>
</file>