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F65-426E-431D-9D14-CE66758D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E23-79FE-437D-9D3A-66A40209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E8F-C64B-4BCE-AFB4-8BD21ECD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465-C2C4-4BF5-B468-8B67A4A0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909-8F2B-4D02-A6C0-E02C063A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A1A-A617-4DE5-A3D3-66053DDE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E09-A25F-45A2-A574-856E431E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209-6E0F-4112-9878-0617E5FA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880-C77B-44A4-A176-E1B54521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AC1-78FD-4075-AA30-A89383BA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5CB-2CFC-4497-AC44-644EDF4F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191-A022-4C6B-A751-5E542300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CCD5-59FE-46A7-AE1F-53F3DCA8B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emistry.org/portal/a/c/s/1/feature_ent.html?id=c373e9fee203bf568f6a17245d830100" TargetMode="External"/><Relationship Id="rId2" Type="http://schemas.openxmlformats.org/officeDocument/2006/relationships/hyperlink" Target="http://science.howstuffworks.com/hot-air-balloon.htm" TargetMode="External"/><Relationship Id="rId3" Type="http://schemas.openxmlformats.org/officeDocument/2006/relationships/hyperlink" Target="http://www.chemistry.org/portal/a/c/s/1/feature_ent.html?id=c373e9fee203bf568f6a17245d830100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iquid_oxygen" TargetMode="External"/><Relationship Id="rId2" Type="http://schemas.openxmlformats.org/officeDocument/2006/relationships/hyperlink" Target="http://scifun.chem.wisc.edu/chemweek/Airgases/airgases.html" TargetMode="External"/><Relationship Id="rId3" Type="http://schemas.openxmlformats.org/officeDocument/2006/relationships/hyperlink" Target="http://www.pa.msu.edu/sciencet/ask_st/051293.html" TargetMode="External"/><Relationship Id="rId4" Type="http://schemas.openxmlformats.org/officeDocument/2006/relationships/hyperlink" Target="http://www.naspensacola.navy.mil/logistics/loxlin.html" TargetMode="External"/><Relationship Id="rId5" Type="http://schemas.openxmlformats.org/officeDocument/2006/relationships/hyperlink" Target="http://wwwsafety.deas.harvard.edu/services/nitrogen.html" TargetMode="External"/><Relationship Id="rId6" Type="http://schemas.openxmlformats.org/officeDocument/2006/relationships/hyperlink" Target="http://wwwsafety.deas.harvard.edu/services/oxygen.html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jollytime.com/kids_corner/science1.asp" TargetMode="External"/><Relationship Id="rId2" Type="http://schemas.openxmlformats.org/officeDocument/2006/relationships/hyperlink" Target="http://www.factmonster.com/index.html" TargetMode="External"/><Relationship Id="rId3" Type="http://schemas.openxmlformats.org/officeDocument/2006/relationships/hyperlink" Target="http://www.factmonster.com/spot/popcorn1.html" TargetMode="External"/><Relationship Id="rId4" Type="http://schemas.openxmlformats.org/officeDocument/2006/relationships/hyperlink" Target="http://amos.indiana.edu/library/scripts/popcorn.html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lectronics.howstuffworks.com/cell-phone-radiation1.htm" TargetMode="External"/><Relationship Id="rId2" Type="http://schemas.openxmlformats.org/officeDocument/2006/relationships/hyperlink" Target="http://www.answers.com/topic/radiation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nswers.com/topic/visiblelight" TargetMode="External"/><Relationship Id="rId2" Type="http://schemas.openxmlformats.org/officeDocument/2006/relationships/hyperlink" Target="http://www.answers.com/topic/visiblelight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lectronics.howstuffworks.com/remote-control4.htm" TargetMode="External"/><Relationship Id="rId2" Type="http://schemas.openxmlformats.org/officeDocument/2006/relationships/hyperlink" Target="http://www.wisegeek.com/how-do-remote-controls-work.htm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dar" TargetMode="External"/><Relationship Id="rId2" Type="http://schemas.openxmlformats.org/officeDocument/2006/relationships/hyperlink" Target="http://science.howstuffworks.com/radar.htm" TargetMode="External"/><Relationship Id="rId3" Type="http://schemas.openxmlformats.org/officeDocument/2006/relationships/hyperlink" Target="http://earth.rice.edu/mtpe/geo/geosphere/topics/remotesensing/25_radar.html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hyperlink" Target="http://en.wikipedia.org/wiki/X-ray" TargetMode="External"/><Relationship Id="rId3" Type="http://schemas.openxmlformats.org/officeDocument/2006/relationships/hyperlink" Target="http://en.wikipedia.org/wiki/X-ray" TargetMode="External"/><Relationship Id="rId4" Type="http://schemas.openxmlformats.org/officeDocument/2006/relationships/hyperlink" Target="http://inventors.about.com/library/inventors/blxray.htm" TargetMode="External"/><Relationship Id="rId5" Type="http://schemas.openxmlformats.org/officeDocument/2006/relationships/hyperlink" Target="http://www.answers.com/topic/x-ray-machine-2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rfizzix.com/basketball/" TargetMode="External"/><Relationship Id="rId2" Type="http://schemas.openxmlformats.org/officeDocument/2006/relationships/hyperlink" Target="http://www.worsleyschool.net/science/files/physicsof/basketball.html" TargetMode="External"/><Relationship Id="rId3" Type="http://schemas.openxmlformats.org/officeDocument/2006/relationships/hyperlink" Target="http://www.hesston.edu/ACADEMIC/FACULTY/NELSONK/PhysicsResearch/Basketball/Paperpg.htm" TargetMode="External"/><Relationship Id="rId4" Type="http://schemas.openxmlformats.org/officeDocument/2006/relationships/hyperlink" Target="http://www.howstuffworks.com/" TargetMode="External"/><Relationship Id="rId5" Type="http://schemas.openxmlformats.org/officeDocument/2006/relationships/hyperlink" Target="http://home.nc.rr.com/enloephysics/sports.htm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eocities.com/bright_effect/physics.html" TargetMode="External"/><Relationship Id="rId2" Type="http://schemas.openxmlformats.org/officeDocument/2006/relationships/hyperlink" Target="http://www.howstuffworks.com/" TargetMode="External"/><Relationship Id="rId3" Type="http://schemas.openxmlformats.org/officeDocument/2006/relationships/hyperlink" Target="http://nhs.needham.k12.ma.us/cur/mphy/np/gym.html" TargetMode="External"/><Relationship Id="rId4" Type="http://schemas.openxmlformats.org/officeDocument/2006/relationships/hyperlink" Target="http://www.k12.nf.ca/gc/Science/Physics3204/Projects2003/SlotC/ProjectC7/mainpage.htm" TargetMode="External"/><Relationship Id="rId5" Type="http://schemas.openxmlformats.org/officeDocument/2006/relationships/hyperlink" Target="http://home.nc.rr.com/enloephysics/sports.htm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home.nc.rr.com/enloephysics/sports.htm" TargetMode="External"/><Relationship Id="rId2" Type="http://schemas.openxmlformats.org/officeDocument/2006/relationships/hyperlink" Target="http://www.bsharp.org/physics/stuff/skater.html" TargetMode="External"/><Relationship Id="rId3" Type="http://schemas.openxmlformats.org/officeDocument/2006/relationships/hyperlink" Target="http://www.howstufworks.com/" TargetMode="External"/><Relationship Id="rId4" Type="http://schemas.openxmlformats.org/officeDocument/2006/relationships/hyperlink" Target="http://madsci.org/posts/archives/feb98/887635696.Ph.r.html" TargetMode="External"/><Relationship Id="rId5" Type="http://schemas.openxmlformats.org/officeDocument/2006/relationships/hyperlink" Target="http://madsci.org/posts/archives/feb98/887635696.Ph.r.html" TargetMode="External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owstuffworks.com/therm1.htm" TargetMode="External"/><Relationship Id="rId2" Type="http://schemas.openxmlformats.org/officeDocument/2006/relationships/hyperlink" Target="http://www.answers.com/topic/dry-bulb-temperature" TargetMode="External"/><Relationship Id="rId3" Type="http://schemas.openxmlformats.org/officeDocument/2006/relationships/hyperlink" Target="http://www.newton.dep.anl.gov/askasci/chem99/chem99323.htm" TargetMode="External"/><Relationship Id="rId4" Type="http://schemas.openxmlformats.org/officeDocument/2006/relationships/hyperlink" Target="http://www.windows.ucar.edu/earth/Atmosphere/temperature/thermometer.html" TargetMode="Externa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cience.howstuffworks.com/black-light.htm" TargetMode="External"/><Relationship Id="rId2" Type="http://schemas.openxmlformats.org/officeDocument/2006/relationships/hyperlink" Target="http://en.wikipedia.org/wiki/Black_light" TargetMode="External"/><Relationship Id="rId3" Type="http://schemas.openxmlformats.org/officeDocument/2006/relationships/hyperlink" Target="http://science.howstuffworks.com/black-light2.htm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owstuffworks.com/question264.htm" TargetMode="External"/><Relationship Id="rId2" Type="http://schemas.openxmlformats.org/officeDocument/2006/relationships/hyperlink" Target="http://en.wikipedia.org/wiki/Dry_ice" TargetMode="External"/><Relationship Id="rId3" Type="http://schemas.openxmlformats.org/officeDocument/2006/relationships/hyperlink" Target="http://www.occc.com/abc/dry-ice.htm" TargetMode="External"/><Relationship Id="rId4" Type="http://schemas.openxmlformats.org/officeDocument/2006/relationships/hyperlink" Target="http://tlc.ousd.k12.ca.us/~acody/Dry_Ice.html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morphous" TargetMode="External"/><Relationship Id="rId2" Type="http://schemas.openxmlformats.org/officeDocument/2006/relationships/hyperlink" Target="http://www.utmem.edu/physpharm/.003a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owstuffworks.com/hydraulic.htm" TargetMode="External"/><Relationship Id="rId2" Type="http://schemas.openxmlformats.org/officeDocument/2006/relationships/hyperlink" Target="http://www.howstuffworks.com/hydraulic.htm" TargetMode="External"/><Relationship Id="rId3" Type="http://schemas.openxmlformats.org/officeDocument/2006/relationships/hyperlink" Target="http://home.wxs.nl/~brink494/frm_e.htm" TargetMode="External"/><Relationship Id="rId4" Type="http://schemas.openxmlformats.org/officeDocument/2006/relationships/hyperlink" Target="http://www.nextenergy.org/industryservices/Hybrid__Hydraulics.asp" TargetMode="External"/><Relationship Id="rId5" Type="http://schemas.openxmlformats.org/officeDocument/2006/relationships/hyperlink" Target="http://auto.howstuffworks.com/question294.htm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Air Ball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s hot air balloons to r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a hot air ball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move the balloon horizonta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launch and land a hot air ball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hot air balloons have to do with states of ma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hemistry.org/portal/a/c/s/1/feature_ent.html?id=c373e9fee203bf568f6a17245d83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ence.howstuffworks.com/hot-air-balloo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hemistry.org/portal/a/c/s/1/feature_ent.html?id=c373e9fee203bf568f6a17245d83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 Nitrogen or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liquid nitrogen (or oxyge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it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its u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its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Liquid_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fun.chem.wisc.edu/chemweek/Airgases/airgase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a.msu.edu/sciencet/ask_st/05129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aspensacola.navy.mil/logistics/loxli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safety.deas.harvard.edu/services/nitrog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safety.deas.harvard.edu/services/oxyg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c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n the popcorn kern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parts of a popcorn kern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uses a popcorn kernel to p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cause popcorn kernels not to p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popcorn have to do with chemis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jollytime.com/kids_corner/science1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actmonster.com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actmonster.com/spot/popcorn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amos.indiana.edu/library/scripts/popcor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works…What causes the colors and how do they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ireworks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fir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fireworks to expl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the different colors of fir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irbag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irbags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airbag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wa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mponents of a handwar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we have to break it or squeeze it to “activate”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reaction is happening ( in terms of heat) and what is “releasing the hea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ttp://antoine.frostburg.edu/chem/senese/101/consumer/faq/how-do-handwarmers-work.s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Batterie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ound inside a batt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action is occur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“dead battery” and a “charged batter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ndenb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“Hindenberg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chemical theory” behind the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have prevented such a disaster from happening?  (Lesson learned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perties enabled such a disaster to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osion of the Statue of Lib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appening to the Statue of Lib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destruction of Statue of Liberty happening? (Explain in terms of 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hanges could be made to help prevent the de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action is occu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tion from Cell Ph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cell phone radiation ca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health risks of cell phone radiatio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you do about cell phone radi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lectronics.howstuffworks.com/cell-phone-radiation1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s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thermosta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 thermostat have to do with chemis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sms and Visibl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nswers.com/topic/visible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visible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red Light and Remote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nfrared remote control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n infrared rem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lectronics.howstuffworks.com/remote-control4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isegeek.com/how-do-remote-controls-work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“radar”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rada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radar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waves are “radar wa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ence.howstuffworks.com/radar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arth.rice.edu/mtpe/geo/geosphere/topics/remotesensing/25_rada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ers and Laser Po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laser pointe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“waves” are associated with las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 laser poi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other uses of las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Laser_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adehow.com/Volume-7/Laser-Pointe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cience.howstuffworks.com/laser8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MRI stan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an MRI test is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MRI machine work …include the job of the electromagn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of MR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 of the MRI machine and its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howstuffworks.com/mri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phschool.com (Electricity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netism Book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ritutor.org/mritutor/WhatisM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eurocog.psy.tufts.edu/images/magnetic_resonance_imaging.ht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x-r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x-ray machines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x-rays bad for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x-ray machines in airports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other uses of x-ra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nventors.about.com/library/inventors/blxray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nswers.com/topic/x-ray-machine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ysics Behind 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basketball illustrate Newton’s law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elationship of basketball to the following motion “concep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rfizzix.com/basketbal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orsleyschool.net/science/files/physicsof/basketbal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esston.edu/ACADEMIC/FACULTY/NELSONK/PhysicsResearch/Basketball/Paperp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howstuffwork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home.nc.rr.com/enloephysics/sport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ysics Behind Gymna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elationship of gymnastics to the following motion “concep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eocities.com/bright_effect/physic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howstuffwork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hs.needham.k12.ma.us/cur/mphy/np/gym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k12.nf.ca/gc/Science/Physics3204/Projects2003/SlotC/ProjectC7/mainpag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home.nc.rr.com/enloephysics/sport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hysics Behind Figure Sk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elationship of figure skating to the following motion “concep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ome.nc.rr.com/enloephysics/sport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sharp.org/physics/stuff/skat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owstufwork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dsci.org/posts/archives/feb98/887635696.Ph.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adsci.org/posts/archives/feb98/887635696.Ph.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705720" y="2590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waves are “microwa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microwaves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a microwave o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ealth risk of microw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Micro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b Thermo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the bulb thermo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makes the liquid in the thermometer rise when it is hot outsid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makes the liquid in the thermometer fall when it is cold out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stuffworks.com/therm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dry-bulb-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ewton.dep.anl.gov/askasci/chem99/chem99323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windows.ucar.edu/earth/Atmosphere/temperature/thermomete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black l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black light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uses for black ligh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ience.howstuffworks.com/black-ligh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Black_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cience.howstuffworks.com/black-light2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Lev Tr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aglev transpor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maglev train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dvantages and disadvantages of maglev tra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Maglev_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howstuffworks.com/maglev-train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-up Turkey Thermo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the pop-up turkey thermo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what makes it “pop up” when the turkey is do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reuse “pop up” thermomet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ry 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dry ice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dry ice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dry ice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stuffworks.com/question264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Dry_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ccc.com/abc/dry-ic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tlc.ousd.k12.ca.us/~acody/Dry_Ic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orphous Solids ( butter, plast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examples of amorphous sol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 properties of an amorphous sol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amorphous solids have to do with states of mat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pplications for amorphous sol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Amorph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tmem.edu/physpharm/.003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glass ma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substance is g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glass ma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able to “mold” it into all sorts of sh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aul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hydraulic system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hydraulics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hydraulics have to do with chemis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howstuffworks.com/hydraulic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home.wxs.nl/~brink494/frm_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extenergy.org/industryservices/Hybrid__Hydraulics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auto.howstuffworks.com/question294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TV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lasma tv’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 plasma t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y thought not to last as long as other TVS (non-plas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0:53:09Z</dcterms:created>
  <dc:creator>ccps</dc:creator>
  <dc:description/>
  <dc:language>en-US</dc:language>
  <cp:lastModifiedBy>ccps</cp:lastModifiedBy>
  <dcterms:modified xsi:type="dcterms:W3CDTF">2007-05-11T19:42:39Z</dcterms:modified>
  <cp:revision>13</cp:revision>
  <dc:subject/>
  <dc:title>Hot Air Balloons</dc:title>
</cp:coreProperties>
</file>