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DCD-16E7-4EF6-B773-B6079A09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ED9-AC49-41CF-90B9-9825437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257-8EE7-4C9B-8B86-B2BE9FF0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C3D-2321-4E43-A6B1-5EA4737B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606-72B5-467A-8896-D8546DA5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524-757E-4D3B-9FA7-0421E96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052-A25F-49AF-A94D-7CEE902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C2C-D0E8-44BB-8EFC-28E471B6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075-9F2D-4C9B-87A7-783025F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0A6-DC9D-44B5-B39B-7849400B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3FA-2944-4F3F-9B5C-73FF437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B8C-8E7A-4CAF-A71A-4AB3E82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2112-C24B-49A7-9061-8A432956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mistry.org/portal/a/c/s/1/feature_ent.html?id=c373e9fee203bf568f6a17245d830100" TargetMode="External"/><Relationship Id="rId2" Type="http://schemas.openxmlformats.org/officeDocument/2006/relationships/hyperlink" Target="http://science.howstuffworks.com/hot-air-balloon.htm" TargetMode="External"/><Relationship Id="rId3" Type="http://schemas.openxmlformats.org/officeDocument/2006/relationships/hyperlink" Target="http://www.chemistry.org/portal/a/c/s/1/feature_ent.html?id=c373e9fee203bf568f6a17245d830100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quid_oxygen" TargetMode="External"/><Relationship Id="rId2" Type="http://schemas.openxmlformats.org/officeDocument/2006/relationships/hyperlink" Target="http://scifun.chem.wisc.edu/chemweek/Airgases/airgases.html" TargetMode="External"/><Relationship Id="rId3" Type="http://schemas.openxmlformats.org/officeDocument/2006/relationships/hyperlink" Target="http://www.pa.msu.edu/sciencet/ask_st/051293.html" TargetMode="External"/><Relationship Id="rId4" Type="http://schemas.openxmlformats.org/officeDocument/2006/relationships/hyperlink" Target="http://www.naspensacola.navy.mil/logistics/loxlin.html" TargetMode="External"/><Relationship Id="rId5" Type="http://schemas.openxmlformats.org/officeDocument/2006/relationships/hyperlink" Target="http://wwwsafety.deas.harvard.edu/services/nitrogen.html" TargetMode="External"/><Relationship Id="rId6" Type="http://schemas.openxmlformats.org/officeDocument/2006/relationships/hyperlink" Target="http://wwwsafety.deas.harvard.edu/services/oxygen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ollytime.com/kids_corner/science1.asp" TargetMode="External"/><Relationship Id="rId2" Type="http://schemas.openxmlformats.org/officeDocument/2006/relationships/hyperlink" Target="http://www.factmonster.com/index.html" TargetMode="External"/><Relationship Id="rId3" Type="http://schemas.openxmlformats.org/officeDocument/2006/relationships/hyperlink" Target="http://www.factmonster.com/spot/popcorn1.html" TargetMode="External"/><Relationship Id="rId4" Type="http://schemas.openxmlformats.org/officeDocument/2006/relationships/hyperlink" Target="http://amos.indiana.edu/library/scripts/popcorn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cell-phone-radiation1.htm" TargetMode="External"/><Relationship Id="rId2" Type="http://schemas.openxmlformats.org/officeDocument/2006/relationships/hyperlink" Target="http://www.answers.com/topic/radiatio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swers.com/topic/visiblelight" TargetMode="External"/><Relationship Id="rId2" Type="http://schemas.openxmlformats.org/officeDocument/2006/relationships/hyperlink" Target="http://www.answers.com/topic/visibleligh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remote-control4.htm" TargetMode="External"/><Relationship Id="rId2" Type="http://schemas.openxmlformats.org/officeDocument/2006/relationships/hyperlink" Target="http://www.wisegeek.com/how-do-remote-controls-work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dar" TargetMode="External"/><Relationship Id="rId2" Type="http://schemas.openxmlformats.org/officeDocument/2006/relationships/hyperlink" Target="http://science.howstuffworks.com/radar.htm" TargetMode="External"/><Relationship Id="rId3" Type="http://schemas.openxmlformats.org/officeDocument/2006/relationships/hyperlink" Target="http://earth.rice.edu/mtpe/geo/geosphere/topics/remotesensing/25_radar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hyperlink" Target="http://en.wikipedia.org/wiki/X-ray" TargetMode="External"/><Relationship Id="rId3" Type="http://schemas.openxmlformats.org/officeDocument/2006/relationships/hyperlink" Target="http://en.wikipedia.org/wiki/X-ray" TargetMode="External"/><Relationship Id="rId4" Type="http://schemas.openxmlformats.org/officeDocument/2006/relationships/hyperlink" Target="http://inventors.about.com/library/inventors/blxray.htm" TargetMode="External"/><Relationship Id="rId5" Type="http://schemas.openxmlformats.org/officeDocument/2006/relationships/hyperlink" Target="http://www.answers.com/topic/x-ray-machine-2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rfizzix.com/basketball/" TargetMode="External"/><Relationship Id="rId2" Type="http://schemas.openxmlformats.org/officeDocument/2006/relationships/hyperlink" Target="http://www.worsleyschool.net/science/files/physicsof/basketball.html" TargetMode="External"/><Relationship Id="rId3" Type="http://schemas.openxmlformats.org/officeDocument/2006/relationships/hyperlink" Target="http://www.hesston.edu/ACADEMIC/FACULTY/NELSONK/PhysicsResearch/Basketball/Paperpg.htm" TargetMode="External"/><Relationship Id="rId4" Type="http://schemas.openxmlformats.org/officeDocument/2006/relationships/hyperlink" Target="http://www.howstuffworks.com/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ities.com/bright_effect/physics.html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nhs.needham.k12.ma.us/cur/mphy/np/gym.html" TargetMode="External"/><Relationship Id="rId4" Type="http://schemas.openxmlformats.org/officeDocument/2006/relationships/hyperlink" Target="http://www.k12.nf.ca/gc/Science/Physics3204/Projects2003/SlotC/ProjectC7/mainpage.htm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nc.rr.com/enloephysics/sports.htm" TargetMode="External"/><Relationship Id="rId2" Type="http://schemas.openxmlformats.org/officeDocument/2006/relationships/hyperlink" Target="http://www.bsharp.org/physics/stuff/skater.html" TargetMode="External"/><Relationship Id="rId3" Type="http://schemas.openxmlformats.org/officeDocument/2006/relationships/hyperlink" Target="http://www.howstufworks.com/" TargetMode="External"/><Relationship Id="rId4" Type="http://schemas.openxmlformats.org/officeDocument/2006/relationships/hyperlink" Target="http://madsci.org/posts/archives/feb98/887635696.Ph.r.html" TargetMode="External"/><Relationship Id="rId5" Type="http://schemas.openxmlformats.org/officeDocument/2006/relationships/hyperlink" Target="http://madsci.org/posts/archives/feb98/887635696.Ph.r.html" TargetMode="Externa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therm1.htm" TargetMode="External"/><Relationship Id="rId2" Type="http://schemas.openxmlformats.org/officeDocument/2006/relationships/hyperlink" Target="http://www.answers.com/topic/dry-bulb-temperature" TargetMode="External"/><Relationship Id="rId3" Type="http://schemas.openxmlformats.org/officeDocument/2006/relationships/hyperlink" Target="http://www.newton.dep.anl.gov/askasci/chem99/chem99323.htm" TargetMode="External"/><Relationship Id="rId4" Type="http://schemas.openxmlformats.org/officeDocument/2006/relationships/hyperlink" Target="http://www.windows.ucar.edu/earth/Atmosphere/temperature/thermometer.html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black-light.htm" TargetMode="External"/><Relationship Id="rId2" Type="http://schemas.openxmlformats.org/officeDocument/2006/relationships/hyperlink" Target="http://en.wikipedia.org/wiki/Black_light" TargetMode="External"/><Relationship Id="rId3" Type="http://schemas.openxmlformats.org/officeDocument/2006/relationships/hyperlink" Target="http://science.howstuffworks.com/black-light2.htm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question264.htm" TargetMode="External"/><Relationship Id="rId2" Type="http://schemas.openxmlformats.org/officeDocument/2006/relationships/hyperlink" Target="http://en.wikipedia.org/wiki/Dry_ice" TargetMode="External"/><Relationship Id="rId3" Type="http://schemas.openxmlformats.org/officeDocument/2006/relationships/hyperlink" Target="http://www.occc.com/abc/dry-ice.htm" TargetMode="External"/><Relationship Id="rId4" Type="http://schemas.openxmlformats.org/officeDocument/2006/relationships/hyperlink" Target="http://tlc.ousd.k12.ca.us/~acody/Dry_Ice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orphous" TargetMode="External"/><Relationship Id="rId2" Type="http://schemas.openxmlformats.org/officeDocument/2006/relationships/hyperlink" Target="http://www.utmem.edu/physpharm/.003a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stuffworks.com/hydraulic.htm" TargetMode="External"/><Relationship Id="rId2" Type="http://schemas.openxmlformats.org/officeDocument/2006/relationships/hyperlink" Target="http://www.howstuffworks.com/hydraulic.htm" TargetMode="External"/><Relationship Id="rId3" Type="http://schemas.openxmlformats.org/officeDocument/2006/relationships/hyperlink" Target="http://home.wxs.nl/~brink494/frm_e.htm" TargetMode="External"/><Relationship Id="rId4" Type="http://schemas.openxmlformats.org/officeDocument/2006/relationships/hyperlink" Target="http://www.nextenergy.org/industryservices/Hybrid__Hydraulics.asp" TargetMode="External"/><Relationship Id="rId5" Type="http://schemas.openxmlformats.org/officeDocument/2006/relationships/hyperlink" Target="http://auto.howstuffworks.com/question294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Air Ball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hot air balloons to 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hot air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move the balloon horizont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aunch and land a hot air ball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ot air balloons have to do with states of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hot-air-ballo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Nitrogen or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quid nitrogen (or oxyge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quid_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fun.chem.wisc.edu/chemweek/Airgases/airgas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a.msu.edu/sciencet/ask_st/05129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aspensacola.navy.mil/logistics/loxl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safety.deas.harvard.edu/services/nitro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safety.deas.harvard.edu/services/oxy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n the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arts of a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a popcorn kernel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ause popcorn kernels not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popcorn have to do with chem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ollytime.com/kids_corner/science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spot/popcorn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mos.indiana.edu/library/scripts/popcor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orks…What causes the colors and how do they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ework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ireworks to expl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different color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irbag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bag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airbag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mponents of a handwar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have to break it or squeeze it to “activate”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reaction is happening ( in terms of heat) and what is “releasing the hea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ttp://antoine.frostburg.edu/chem/senese/101/consumer/faq/how-do-handwarmers-work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und inside a batt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“dead battery” and a “charged batter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nden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“Hindenber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hemical theory” behind the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have prevented such a disaster from happening?  (Lesson learn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enabled such a disaster to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osion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to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estruction of Statue of Liberty happening? (Explain in terms of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nges could be made to help prevent the de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rom Cell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ell phone radiation ca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health risks of cell phone radiati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about cell phone ra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cell-phone-radiation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thermosta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thermostat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s and Visibl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red Light and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frared remote control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n infrared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remote-control4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segeek.com/how-do-remote-controls-wo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dar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ada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adar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waves are “radar 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radar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rice.edu/mtpe/geo/geosphere/topics/remotesensing/25_rada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s and Laser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laser point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waves” are associated with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laser po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other uses of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Laser_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adehow.com/Volume-7/Laser-Point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ience.howstuffworks.com/laser8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MRI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an MRI test i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MRI machine work …include the job of the electro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of MR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of the MRI machine and it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owstuffworks.com/mr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hschool.com (Electricit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m Boo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ritutor.org/mritutor/WhatisM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urocog.psy.tufts.edu/images/magnetic_resonance_imaging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x-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x-ray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in airport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ther uses of x-r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library/inventors/blxra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x-ray-machin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asketball illustrate Newton’s la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ship of basketball to the following motion “conce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rfizzix.com/basketb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sleyschool.net/science/files/physicsof/basketbal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esston.edu/ACADEMIC/FACULTY/NELSONK/PhysicsResearch/Basketball/Paper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howstuff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Gymna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gymnastics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cities.com/bright_effect/physi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hs.needham.k12.ma.us/cur/mphy/np/gy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12.nf.ca/gc/Science/Physics3204/Projects2003/SlotC/ProjectC7/main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hysics Behind Figure Sk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figure skating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sharp.org/physics/stuff/ska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05720" y="2590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aves are “micro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microwave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microwave o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risk of micro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b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bulb therm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rise when it is hot outsi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fall when it is cold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therm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dry-bulb-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ton.dep.anl.gov/askasci/chem99/chem9932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ndows.ucar.edu/earth/Atmosphere/temperature/thermome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ack 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lack ligh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uses for black ligh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ence.howstuffworks.com/black-ligh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Black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ience.howstuffworks.com/black-light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Lev 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aglev trans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aglev train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maglev tr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aglev_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wstuffworks.com/maglev-trai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-up Turkey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the pop-up turkey ther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makes it “pop up” when the turkey is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reuse “pop up” therm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y 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dry ice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question26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Dry_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ccc.com/abc/dry-ic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lc.ousd.k12.ca.us/~acody/Dry_I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rphous Solids ( butter, pla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mples of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 properties of an amorphous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morphous solids have to do with states of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lications for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morph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tmem.edu/physpharm/.003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ubstance is g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glass m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able to “mold” it into all sorts of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hydraulic syste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hydraulic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hydraulics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/hydrauli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wxs.nl/~brink494/frm_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extenergy.org/industryservices/Hybrid__Hydraulics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uto.howstuffworks.com/question29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T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lasma tv’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plasma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thought not to last as long as other TVS (non-plas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0:53:09Z</dcterms:created>
  <dc:creator>ccps</dc:creator>
  <dc:description/>
  <dc:language>en-US</dc:language>
  <cp:lastModifiedBy>ccps</cp:lastModifiedBy>
  <dcterms:modified xsi:type="dcterms:W3CDTF">2007-05-11T19:42:39Z</dcterms:modified>
  <cp:revision>13</cp:revision>
  <dc:subject/>
  <dc:title>Hot Air Balloons</dc:title>
</cp:coreProperties>
</file>