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ADD465-0B32-4F4A-8547-7FC1D5455F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C3FDE9-1A46-4AB1-AE31-2FA6973E72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759AF2-6314-44A2-AEAD-D868D466B6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1C3754-B366-442E-A8B2-4617186960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3D125D-DB29-49D4-8196-DFADEE905E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CE17C0-08F0-4845-B469-4C5A782F12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8F27F5-EDDF-4617-98E4-82357153F3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2772E7-D359-4F32-B3F4-987EFA33A7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7DA238-3796-40D1-85D8-525216F89F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12E5B2-2857-48FB-9FC0-C642D7C835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C2D67F-E08D-42A0-B380-5DE1B05F8B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70D83D-BD68-4E66-8F24-933F157622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6F3A9-EE96-479B-B50E-0C7B940E2CE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actden.com/pp/index.htm" TargetMode="External"/><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49248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5x5x5  Power Point Plans</a:t>
            </a:r>
            <a:endParaRPr b="0" lang="en-US" sz="3600" spc="-1" strike="noStrike">
              <a:solidFill>
                <a:srgbClr val="000000"/>
              </a:solidFill>
              <a:latin typeface="Arial"/>
            </a:endParaRPr>
          </a:p>
        </p:txBody>
      </p:sp>
      <p:sp>
        <p:nvSpPr>
          <p:cNvPr id="42" name=""/>
          <p:cNvSpPr/>
          <p:nvPr/>
        </p:nvSpPr>
        <p:spPr>
          <a:xfrm>
            <a:off x="0" y="609480"/>
            <a:ext cx="9144000" cy="59378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the following empty slides as you research your  topic to plan how each slide will look. You must hand this in for approval before starting the actual power point projec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nk about what types of clip art or pictures would help teach the concep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aw a sketch for each slide.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re should b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 Title Slide…including student names and the title… maybe a cool picture relating to the concep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 Information slides teaching us what you learned…there could be hyperlinks to a website, labeled diagrams or picture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 sure there is enough information to explain the concep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 Finally there should be a slide listing the resources used…such as websites and book title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you need help with Power Point go here…</a:t>
            </a:r>
            <a:endParaRPr b="0" lang="en-US" sz="2000" spc="-1" strike="noStrike">
              <a:solidFill>
                <a:srgbClr val="000000"/>
              </a:solidFill>
              <a:latin typeface="Arial"/>
            </a:endParaRPr>
          </a:p>
        </p:txBody>
      </p:sp>
      <p:sp>
        <p:nvSpPr>
          <p:cNvPr id="43" name=""/>
          <p:cNvSpPr/>
          <p:nvPr/>
        </p:nvSpPr>
        <p:spPr>
          <a:xfrm>
            <a:off x="5279760" y="6073920"/>
            <a:ext cx="3861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http://www.actden.com/pp/index.ht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6T14:12:01Z</dcterms:created>
  <dc:creator>ccps</dc:creator>
  <dc:description/>
  <dc:language>en-US</dc:language>
  <cp:lastModifiedBy>ccps</cp:lastModifiedBy>
  <dcterms:modified xsi:type="dcterms:W3CDTF">2007-10-03T18:33:14Z</dcterms:modified>
  <cp:revision>4</cp:revision>
  <dc:subject/>
  <dc:title>5x5x5 Power Point Plans</dc:title>
</cp:coreProperties>
</file>