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B902E-1CCB-43F3-9C94-B74BE00C3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98F18-40B8-4F3A-A890-C6C90EF35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2551A-EE23-4E7E-BFC7-0A66C6EC6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C04CC-CB65-4489-8FBA-04AB55C2B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8A042-455D-4C19-ABF7-20DB495D6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6C50C-6952-4659-ADF8-A95AC588F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F3198-9F89-4302-B22E-DC45D82F7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FA514-EFE6-4469-8DAF-659C6FBF0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85E3F-6A70-4A04-A76E-3CF1DC738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B8D62-6CDB-412A-A1F2-41D093B81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3A91E-3657-4D85-825E-127AE0E13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46122-0872-4572-8037-BB34EF72A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A75B-85C8-4691-A880-E12B0287C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ctden.com/pp/index.htm"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492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x5x5  Power Point Plans</a:t>
            </a:r>
            <a:endParaRPr b="0" lang="en-US" sz="3600" spc="-1" strike="noStrike">
              <a:solidFill>
                <a:srgbClr val="000000"/>
              </a:solidFill>
              <a:latin typeface="Arial"/>
            </a:endParaRPr>
          </a:p>
        </p:txBody>
      </p:sp>
      <p:sp>
        <p:nvSpPr>
          <p:cNvPr id="42" name=""/>
          <p:cNvSpPr/>
          <p:nvPr/>
        </p:nvSpPr>
        <p:spPr>
          <a:xfrm>
            <a:off x="0" y="609480"/>
            <a:ext cx="9144000" cy="5937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following empty slides as you research your  topic to plan how each slide will look. You must hand this in for approval before starting the actual power point proje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nk about what types of clip art or pictures would help teach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w a sketch for each slid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should b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Title Slide…including student names and the title… maybe a cool picture relating to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 Information slides teaching us what you learned…there could be hyperlinks to a website, labeled diagrams or pictur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sure there is enough information to explain the concep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Finally there should be a slide listing the resources used…such as websites and book tit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you need help with Power Point go here…</a:t>
            </a:r>
            <a:endParaRPr b="0" lang="en-US" sz="2000" spc="-1" strike="noStrike">
              <a:solidFill>
                <a:srgbClr val="000000"/>
              </a:solidFill>
              <a:latin typeface="Arial"/>
            </a:endParaRPr>
          </a:p>
        </p:txBody>
      </p:sp>
      <p:sp>
        <p:nvSpPr>
          <p:cNvPr id="43" name=""/>
          <p:cNvSpPr/>
          <p:nvPr/>
        </p:nvSpPr>
        <p:spPr>
          <a:xfrm>
            <a:off x="5279760" y="607392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actden.com/pp/index.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6T14:12:01Z</dcterms:created>
  <dc:creator>ccps</dc:creator>
  <dc:description/>
  <dc:language>en-US</dc:language>
  <cp:lastModifiedBy>ccps</cp:lastModifiedBy>
  <dcterms:modified xsi:type="dcterms:W3CDTF">2007-10-03T18:33:14Z</dcterms:modified>
  <cp:revision>4</cp:revision>
  <dc:subject/>
  <dc:title>5x5x5 Power Point Plans</dc:title>
</cp:coreProperties>
</file>