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25B5F-21E0-411D-9D3F-48FF5DCF0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F94AE-568C-4055-93ED-25242138E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362AF-46D1-44A2-824E-8A5143307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8F9A5-B235-42DC-B247-F55A286F5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DA32E-CD93-4535-BF9B-96C59302A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15CC-142E-434E-8FD7-E6811C7AF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AD50D-AA3C-4550-BE6D-0901247A0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D0E0-E938-4692-A5B8-A6FCE17EA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6EA4D-A0F3-4921-9A90-BABED8C6D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485C-5339-4FDD-AD60-40BAE59D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4399-BB10-4351-97F4-8263157B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2AF9-7184-4879-800A-E8169642F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F212-05E3-4554-B80F-991CF8F3A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ctden.com/pp/index.htm"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92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x5x5  Power Point Plans</a:t>
            </a:r>
            <a:endParaRPr b="0" lang="en-US" sz="3600" spc="-1" strike="noStrike">
              <a:solidFill>
                <a:srgbClr val="000000"/>
              </a:solidFill>
              <a:latin typeface="Arial"/>
            </a:endParaRPr>
          </a:p>
        </p:txBody>
      </p:sp>
      <p:sp>
        <p:nvSpPr>
          <p:cNvPr id="42" name=""/>
          <p:cNvSpPr/>
          <p:nvPr/>
        </p:nvSpPr>
        <p:spPr>
          <a:xfrm>
            <a:off x="0" y="609480"/>
            <a:ext cx="9144000" cy="593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ollowing empty slides as you research your  topic to plan how each slide will look. You must hand this in for approval before starting the actual power point proje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about what types of clip art or pictures would help teach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 a sketch for each slid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should b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Title Slide…including student names and the title… maybe a cool picture relating to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Information slides teaching us what you learned…there could be hyperlinks to a website, labeled diagrams or pictu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sure there is enough information to explain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Finally there should be a slide listing the resources used…such as websites and book tit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need help with Power Point go here…</a:t>
            </a:r>
            <a:endParaRPr b="0" lang="en-US" sz="2000" spc="-1" strike="noStrike">
              <a:solidFill>
                <a:srgbClr val="000000"/>
              </a:solidFill>
              <a:latin typeface="Arial"/>
            </a:endParaRPr>
          </a:p>
        </p:txBody>
      </p:sp>
      <p:sp>
        <p:nvSpPr>
          <p:cNvPr id="43" name=""/>
          <p:cNvSpPr/>
          <p:nvPr/>
        </p:nvSpPr>
        <p:spPr>
          <a:xfrm>
            <a:off x="5279760" y="607392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ctden.com/pp/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4:12:01Z</dcterms:created>
  <dc:creator>ccps</dc:creator>
  <dc:description/>
  <dc:language>en-US</dc:language>
  <cp:lastModifiedBy>ccps</cp:lastModifiedBy>
  <dcterms:modified xsi:type="dcterms:W3CDTF">2007-10-03T18:33:14Z</dcterms:modified>
  <cp:revision>4</cp:revision>
  <dc:subject/>
  <dc:title>5x5x5 Power Point Plans</dc:title>
</cp:coreProperties>
</file>