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6C1BF-E521-4CA1-A0F0-868EABBCA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8F1E-179E-4BC9-9A0D-80FB36587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A4D0B-C39B-40C4-93E1-BC5BBF8C5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2B9F8-5CB5-410D-894F-DF2391025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93BD6-1691-44A9-8CA4-F08381961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3107E-656A-460E-BBB1-A2CDB07EF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3A02D-EE3E-417D-B427-478965407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5A05C-C0E1-4474-9385-C8A8E6FA2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8F07-0B75-416C-BEE3-EEE80FC88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2CD1B-8595-4B33-9ED8-46697B169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3868F-5104-4651-BD31-A8E8B0D7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6C7D8-B803-4D64-A265-2634AA0BA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C700-F0C8-40ED-B146-5DB2EFDFC2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den.com/pp/index.ht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92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x5x5  Power Point Plans</a:t>
            </a:r>
            <a:endParaRPr b="0" lang="en-US" sz="3600" spc="-1" strike="noStrike">
              <a:solidFill>
                <a:srgbClr val="000000"/>
              </a:solidFill>
              <a:latin typeface="Arial"/>
            </a:endParaRPr>
          </a:p>
        </p:txBody>
      </p:sp>
      <p:sp>
        <p:nvSpPr>
          <p:cNvPr id="42" name=""/>
          <p:cNvSpPr/>
          <p:nvPr/>
        </p:nvSpPr>
        <p:spPr>
          <a:xfrm>
            <a:off x="0" y="609480"/>
            <a:ext cx="9144000" cy="593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llowing empty slides as you research your  topic to plan how each slide will look. You must hand this in for approval before starting the actual power point proje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what types of clip art or pictures would help teach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 a sketch for each slid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should 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Title Slide…including student names and the title… maybe a cool picture relating to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Information slides teaching us what you learned…there could be hyperlinks to a website, labeled diagrams or pictu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ere is enough information to explain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Finally there should be a slide listing the resources used…such as websites and book tit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need help with Power Point go here…</a:t>
            </a:r>
            <a:endParaRPr b="0" lang="en-US" sz="2000" spc="-1" strike="noStrike">
              <a:solidFill>
                <a:srgbClr val="000000"/>
              </a:solidFill>
              <a:latin typeface="Arial"/>
            </a:endParaRPr>
          </a:p>
        </p:txBody>
      </p:sp>
      <p:sp>
        <p:nvSpPr>
          <p:cNvPr id="43" name=""/>
          <p:cNvSpPr/>
          <p:nvPr/>
        </p:nvSpPr>
        <p:spPr>
          <a:xfrm>
            <a:off x="5279760" y="607392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ctden.com/pp/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4:12:01Z</dcterms:created>
  <dc:creator>ccps</dc:creator>
  <dc:description/>
  <dc:language>en-US</dc:language>
  <cp:lastModifiedBy>ccps</cp:lastModifiedBy>
  <dcterms:modified xsi:type="dcterms:W3CDTF">2007-10-03T18:33:14Z</dcterms:modified>
  <cp:revision>4</cp:revision>
  <dc:subject/>
  <dc:title>5x5x5 Power Point Plans</dc:title>
</cp:coreProperties>
</file>