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D285-D42E-4FCE-B264-0516916C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21E-A049-4184-A18D-F128A3E7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A7B1-A54E-4D40-9350-CCA1812E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62D-4199-4CEF-9F62-187B48F0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48E-0DEF-42B9-BEFB-A9AF32F2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2FF-5877-4C79-A57C-1F855BE8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6E6D-B82A-4991-B413-5857AE97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F4D-5564-41D6-A698-B090B88D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7CFA-E03D-4CF9-9852-6B955B28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257-B29B-4A09-B34D-89AE3467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DD58-88D5-4B6D-9205-046FDEF4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671-B5B0-4B5D-A877-264E9584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938F-49DB-4D6B-8954-AC3C3A37F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8377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notes to help you write a summary  that explains how a dry cell makes electric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 and label a diagram to help expla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4114800"/>
            <a:ext cx="5181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Word 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lectrolyte, electrodes, chemical reaction, positive, negative, terminals, curren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ttery Computer Assig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52480" y="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ow it Work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57400" y="1752480"/>
            <a:ext cx="4732200" cy="3139920"/>
            <a:chOff x="2057400" y="1752480"/>
            <a:chExt cx="4732200" cy="3139920"/>
          </a:xfrm>
        </p:grpSpPr>
        <p:sp>
          <p:nvSpPr>
            <p:cNvPr id="47" name=""/>
            <p:cNvSpPr/>
            <p:nvPr/>
          </p:nvSpPr>
          <p:spPr>
            <a:xfrm>
              <a:off x="2057400" y="1752480"/>
              <a:ext cx="4732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57400" y="1752480"/>
              <a:ext cx="4732200" cy="31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0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Inside battery"/>
          <p:cNvPicPr/>
          <p:nvPr/>
        </p:nvPicPr>
        <p:blipFill>
          <a:blip r:embed="rId3"/>
          <a:stretch/>
        </p:blipFill>
        <p:spPr>
          <a:xfrm>
            <a:off x="2666880" y="685800"/>
            <a:ext cx="3517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62520" y="1981800"/>
            <a:ext cx="5181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ould view a battery as a kind of pump. But instead of pumping water through pipes, the battery moves electrons through a wire and through the things that the wire is connected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248616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made up of a zinc can, which acts as the 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743120"/>
            <a:ext cx="2133720" cy="3809880"/>
          </a:xfrm>
          <a:prstGeom prst="rect">
            <a:avLst/>
          </a:prstGeom>
          <a:solidFill>
            <a:srgbClr val="bbe0e3">
              <a:alpha val="37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43120"/>
            <a:ext cx="2133720" cy="3809880"/>
          </a:xfrm>
          <a:prstGeom prst="rect">
            <a:avLst/>
          </a:prstGeom>
          <a:solidFill>
            <a:srgbClr val="bbe0e3">
              <a:alpha val="37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469404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ther electrode is a carbon rod in the 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2486160"/>
            <a:ext cx="49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ell is made up of a zinc can, which acts as the 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573360" y="1974960"/>
          <a:ext cx="1996920" cy="2909880"/>
        </p:xfrm>
        <a:graphic>
          <a:graphicData uri="http://schemas.openxmlformats.org/drawingml/2006/table">
            <a:tbl>
              <a:tblPr/>
              <a:tblGrid>
                <a:gridCol w="241200"/>
                <a:gridCol w="1755720"/>
              </a:tblGrid>
              <a:tr h="305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6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                          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693960" y="3360600"/>
            <a:ext cx="9720" cy="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Inside battery"/>
          <p:cNvPicPr/>
          <p:nvPr/>
        </p:nvPicPr>
        <p:blipFill>
          <a:blip r:embed="rId2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9880" y="3042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's how a dry cell work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1285200"/>
            <a:ext cx="495288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bon rod is surrounded by a pasty mixture that could be a strong base such as </a:t>
            </a:r>
            <a:r>
              <a:rPr b="1" i="1" lang="en-US" sz="2800" spc="-1" strike="noStrike">
                <a:solidFill>
                  <a:srgbClr val="6600ff"/>
                </a:solidFill>
                <a:latin typeface="Arial"/>
              </a:rPr>
              <a:t>potassium hydroxi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ong acids like </a:t>
            </a:r>
            <a:r>
              <a:rPr b="1" i="1" lang="en-US" sz="2800" spc="-1" strike="noStrike">
                <a:solidFill>
                  <a:srgbClr val="ff0066"/>
                </a:solidFill>
                <a:latin typeface="Arial"/>
              </a:rPr>
              <a:t>sulfuric aci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n also react with certain metals to make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133720"/>
            <a:ext cx="1066680" cy="3047760"/>
          </a:xfrm>
          <a:prstGeom prst="rect">
            <a:avLst/>
          </a:prstGeom>
          <a:solidFill>
            <a:srgbClr val="6600ff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86200" y="45892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bon atoms become positive while the zinc atoms become negativ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1328760"/>
            <a:ext cx="52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hemical reaction from the paste causes the zinc container to steal electrons from the carbon atom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3360" y="1828800"/>
            <a:ext cx="1981080" cy="373392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5548320"/>
            <a:ext cx="685800" cy="685800"/>
          </a:xfrm>
          <a:prstGeom prst="ellipse">
            <a:avLst/>
          </a:prstGeom>
          <a:noFill/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2440" y="1019160"/>
            <a:ext cx="685800" cy="685800"/>
          </a:xfrm>
          <a:prstGeom prst="ellipse">
            <a:avLst/>
          </a:prstGeom>
          <a:noFill/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Inside battery"/>
          <p:cNvPicPr/>
          <p:nvPr/>
        </p:nvPicPr>
        <p:blipFill>
          <a:blip r:embed="rId1"/>
          <a:stretch/>
        </p:blipFill>
        <p:spPr>
          <a:xfrm>
            <a:off x="0" y="0"/>
            <a:ext cx="3906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00600" y="630360"/>
            <a:ext cx="43434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a circuit is created between the positive and negative terminals of our cell, the electrons will be pulled by the positive carbon atom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lectrons are pushed by the chemical reaction until the metals are too corroded and the cell is said to be “dead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3360" y="1828800"/>
            <a:ext cx="1981080" cy="3733920"/>
          </a:xfrm>
          <a:prstGeom prst="rect">
            <a:avLst/>
          </a:prstGeom>
          <a:noFill/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5548320"/>
            <a:ext cx="685800" cy="685800"/>
          </a:xfrm>
          <a:prstGeom prst="ellipse">
            <a:avLst/>
          </a:prstGeom>
          <a:noFill/>
          <a:ln w="95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1828800"/>
            <a:ext cx="380880" cy="3276720"/>
          </a:xfrm>
          <a:prstGeom prst="rect">
            <a:avLst/>
          </a:prstGeom>
          <a:solidFill>
            <a:srgbClr val="ff0000">
              <a:alpha val="48000"/>
            </a:srgbClr>
          </a:solidFill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2440" y="1019160"/>
            <a:ext cx="685800" cy="685800"/>
          </a:xfrm>
          <a:prstGeom prst="ellipse">
            <a:avLst/>
          </a:prstGeom>
          <a:noFill/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90920" y="3657600"/>
            <a:ext cx="761760" cy="28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90560" y="762120"/>
            <a:ext cx="533160" cy="2666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5400000">
            <a:off x="3274920" y="2692080"/>
            <a:ext cx="1269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use your notes to write a paragraph that explains how a dry cell makes electric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w and label a diagram to help expla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791320" y="38862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4114800"/>
            <a:ext cx="51814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Word Ban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electrolyte, electrodes, chemical reaction, positive, negative, terminals, current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8T19:50:33Z</dcterms:created>
  <dc:creator>ccps</dc:creator>
  <dc:description/>
  <dc:language>en-US</dc:language>
  <cp:lastModifiedBy>ccps</cp:lastModifiedBy>
  <dcterms:modified xsi:type="dcterms:W3CDTF">2009-05-20T18:16:49Z</dcterms:modified>
  <cp:revision>13</cp:revision>
  <dc:subject/>
  <dc:title>Slide 1</dc:title>
</cp:coreProperties>
</file>